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11.jpeg" ContentType="image/jpeg"/>
  <Override PartName="/ppt/media/image9.png" ContentType="image/png"/>
  <Override PartName="/ppt/media/image17.wmf" ContentType="image/x-wmf"/>
  <Override PartName="/ppt/media/image7.png" ContentType="image/png"/>
  <Override PartName="/ppt/media/image15.wmf" ContentType="image/x-wmf"/>
  <Override PartName="/ppt/media/image6.png" ContentType="image/png"/>
  <Override PartName="/ppt/media/image10.png" ContentType="image/png"/>
  <Override PartName="/ppt/media/image27.jpeg" ContentType="image/jpeg"/>
  <Override PartName="/ppt/media/image5.png" ContentType="image/png"/>
  <Override PartName="/ppt/media/image4.jpeg" ContentType="image/jpeg"/>
  <Override PartName="/ppt/media/image2.png" ContentType="image/png"/>
  <Override PartName="/ppt/media/image26.wmf" ContentType="image/x-wmf"/>
  <Override PartName="/ppt/media/image14.png" ContentType="image/png"/>
  <Override PartName="/ppt/media/image25.wmf" ContentType="image/x-wmf"/>
  <Override PartName="/ppt/media/image23.jpeg" ContentType="image/jpe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4.jpeg" ContentType="image/jpeg"/>
  <Override PartName="/ppt/media/image3.jpeg" ContentType="image/jpeg"/>
  <Override PartName="/ppt/media/image1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ABBAE-5C99-4697-93E4-EA48960614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Vkládejte hodnotu přepočtenou podle úvazku: hrubá mzda * úvaze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404040"/>
                </a:solidFill>
                <a:latin typeface="Calibri"/>
              </a:rPr>
              <a:t>Pozice bude mít hrubou mzdu 20 000 Kč, úvazek 0,2; tedy 20 000/5 – vložíte hodnotu 4000 Kč</a:t>
            </a:r>
            <a:endParaRPr b="0" lang="en-US" sz="1200" spc="-1" strike="noStrike">
              <a:solidFill>
                <a:srgbClr val="000000"/>
              </a:solidFill>
              <a:latin typeface="Calibri"/>
            </a:endParaRPr>
          </a:p>
        </p:txBody>
      </p:sp>
      <p:sp>
        <p:nvSpPr>
          <p:cNvPr id="7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E6765-08E0-446D-B140-A71003996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Využívejte komentář k rozpočtu!</a:t>
            </a:r>
            <a:endParaRPr b="0" lang="en-US" sz="1200" spc="-1" strike="noStrike">
              <a:solidFill>
                <a:srgbClr val="000000"/>
              </a:solidFill>
              <a:latin typeface="Calibri"/>
            </a:endParaRPr>
          </a:p>
        </p:txBody>
      </p:sp>
      <p:sp>
        <p:nvSpPr>
          <p:cNvPr id="79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021A5-9ABE-4B8C-80B0-86F115E46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70BC1-2D2A-4BCF-9A63-1695DB50E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N nejsou nebo nemohou být jednoznačně spojené s konkrétní klíčovou aktivitou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ffffff"/>
                </a:solidFill>
                <a:latin typeface="Calibri"/>
              </a:rPr>
              <a:t>Pravidly nepřímých nákladů nejsou nijak dotčeny povinnosti organizací se stanovenými limity mzdové regulace; tyto organizace mohou do nepřímých nákladů zahrnout prostředky na platy nebo ostatní osobní náklady, současně však tyto prostředky evidují a nemohou o ně překročit stanovené limity,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7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6F91A-DC4E-4598-BBD8-35084B5D8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ejí mít </a:t>
            </a:r>
            <a:r>
              <a:rPr b="1" lang="cs-CZ" sz="1200" spc="-1" strike="noStrike">
                <a:solidFill>
                  <a:srgbClr val="000000"/>
                </a:solidFill>
                <a:latin typeface="Calibri"/>
              </a:rPr>
              <a:t>přímou vazbu na realizaci klíčových aktivit</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nebude možné vykonat, pokud nebudou specifikovány (</a:t>
            </a:r>
            <a:r>
              <a:rPr b="1" lang="cs-CZ" sz="1200" spc="-1" strike="noStrike">
                <a:solidFill>
                  <a:srgbClr val="000000"/>
                </a:solidFill>
                <a:latin typeface="Calibri"/>
              </a:rPr>
              <a:t>KDO, KAM a PROČ jede</a:t>
            </a:r>
            <a:r>
              <a:rPr b="0" lang="cs-CZ" sz="1200" spc="-1" strike="noStrike">
                <a:solidFill>
                  <a:srgbClr val="000000"/>
                </a:solidFill>
                <a:latin typeface="Calibri"/>
              </a:rPr>
              <a:t>) ve schválené projektové žádosti </a:t>
            </a:r>
            <a:endParaRPr b="0" lang="en-US" sz="1200" spc="-1" strike="noStrike">
              <a:solidFill>
                <a:srgbClr val="000000"/>
              </a:solidFill>
              <a:latin typeface="Calibri"/>
            </a:endParaRPr>
          </a:p>
          <a:p>
            <a:pPr>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růběhu realizace již </a:t>
            </a:r>
            <a:r>
              <a:rPr b="1" lang="cs-CZ" sz="1200" spc="-1" strike="noStrike">
                <a:solidFill>
                  <a:srgbClr val="000000"/>
                </a:solidFill>
                <a:latin typeface="Calibri"/>
              </a:rPr>
              <a:t>nelze výdaje na ně navyšov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DC607-831D-4AC2-B195-F5E310B53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134C1-BB89-41B3-B92C-AA956E53C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sou v projektu uplatněny </a:t>
            </a:r>
            <a:r>
              <a:rPr b="1" lang="cs-CZ" sz="1200" spc="-1" strike="noStrike">
                <a:solidFill>
                  <a:srgbClr val="000000"/>
                </a:solidFill>
                <a:latin typeface="Calibri"/>
              </a:rPr>
              <a:t>nepřímé náklady (zahrnutí nepřímých nákladů do rozpočtu je stanoveno příslušnou výzvou), pak výdaje související s tuzemskými služebními cestami nemohou být součástí této kapitoly rozpočtu, nýbrž spadají pod položku nepřímé nákl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7854D-9B25-4E06-9462-732AF3A94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hrada prokázaných jízdních výdajů – </a:t>
            </a:r>
            <a:r>
              <a:rPr b="0" lang="cs-CZ" sz="1200" spc="-1" strike="noStrike">
                <a:solidFill>
                  <a:srgbClr val="000000"/>
                </a:solidFill>
                <a:latin typeface="Calibri"/>
              </a:rPr>
              <a:t>výdaje, které jsou spojeny s dopravou na služební cestě (výdaje za jízdenky veřejné dopravy ve 2. třídě, místenky, lehátka nebo lůžka, letenky, jízdenky místní veřejné dopravy, výdaje související s použitím silničního motorového vozidla s výjimkou vozidla poskytnutého zaměstnavatelem) jsou v rámci schváleného rozpočtu způsobilé.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1" lang="cs-CZ" sz="1200" spc="-1" strike="noStrike">
                <a:solidFill>
                  <a:srgbClr val="000000"/>
                </a:solidFill>
                <a:latin typeface="Calibri"/>
              </a:rPr>
              <a:t>Ubytování –</a:t>
            </a:r>
            <a:r>
              <a:rPr b="0" lang="cs-CZ" sz="1200" spc="-1" strike="noStrike">
                <a:solidFill>
                  <a:srgbClr val="000000"/>
                </a:solidFill>
                <a:latin typeface="Calibri"/>
              </a:rPr>
              <a:t> v případě výdajů za tuzemské ubytování je nutné dodržovat cenový limit pro ubytování v ČR – maximálně 1 500 Kč za osobu </a:t>
            </a:r>
            <a:r>
              <a:rPr b="0" lang="pl-PL" sz="1200" spc="-1" strike="noStrike">
                <a:solidFill>
                  <a:srgbClr val="000000"/>
                </a:solidFill>
                <a:latin typeface="Calibri"/>
              </a:rPr>
              <a:t>a noc (pro hl. město Prahu se limit zvyšuje na 2 000 Kč za osobu a no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Nutné vedlejší výdaje </a:t>
            </a:r>
            <a:r>
              <a:rPr b="1" lang="cs-CZ" sz="1200" spc="-1" strike="noStrike">
                <a:solidFill>
                  <a:srgbClr val="000000"/>
                </a:solidFill>
                <a:latin typeface="Calibri"/>
              </a:rPr>
              <a:t>–</a:t>
            </a:r>
            <a:r>
              <a:rPr b="0" lang="pl-PL" sz="1200" spc="-1" strike="noStrike">
                <a:solidFill>
                  <a:srgbClr val="000000"/>
                </a:solidFill>
                <a:latin typeface="Calibri"/>
              </a:rPr>
              <a:t> </a:t>
            </a:r>
            <a:r>
              <a:rPr b="0" lang="cs-CZ" sz="1200" spc="-1" strike="noStrike">
                <a:solidFill>
                  <a:srgbClr val="000000"/>
                </a:solidFill>
                <a:latin typeface="Calibri"/>
              </a:rPr>
              <a:t>např. parkovné, poplatky spojené s pracovní cestou, konferenční poplatky, poplatky za použití telefonu, dálniční poplatek, vstupenky na veletrh, cestovní pojištění, poplatky za úschovu zavazadel apod. Tyto poplatky lze hradit pouze na základě prokázaných úhrad. </a:t>
            </a:r>
            <a:endParaRPr b="0" lang="en-US" sz="1200" spc="-1" strike="noStrike">
              <a:solidFill>
                <a:srgbClr val="000000"/>
              </a:solidFill>
              <a:latin typeface="Calibri"/>
            </a:endParaRPr>
          </a:p>
        </p:txBody>
      </p:sp>
      <p:sp>
        <p:nvSpPr>
          <p:cNvPr id="80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AF95D-7171-4EC0-BE2A-05E8EA35E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37C56-8AA7-437A-9237-79A477535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Podíl Kapitoly rozpočtu č. 3 – Zařízení </a:t>
            </a:r>
            <a:r>
              <a:rPr b="1" lang="cs-CZ" sz="1100" spc="-1" strike="noStrike">
                <a:solidFill>
                  <a:srgbClr val="000000"/>
                </a:solidFill>
                <a:latin typeface="Calibri"/>
              </a:rPr>
              <a:t>smí činit nejvýše 25 %</a:t>
            </a:r>
            <a:r>
              <a:rPr b="0" lang="cs-CZ" sz="1100" spc="-1" strike="noStrike">
                <a:solidFill>
                  <a:srgbClr val="000000"/>
                </a:solidFill>
                <a:latin typeface="Calibri"/>
              </a:rPr>
              <a:t> (výdajů na pořízení zařízení a vybavení </a:t>
            </a:r>
            <a:r>
              <a:rPr b="1" lang="cs-CZ" sz="1100" spc="-1" strike="noStrike">
                <a:solidFill>
                  <a:srgbClr val="000000"/>
                </a:solidFill>
                <a:latin typeface="Calibri"/>
              </a:rPr>
              <a:t>včetně křížového financování v této kapitole) na celkových způsobilých výdajích (včetně křížového financování zahrnutého v této kapitol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Nehmotný majetek do 60 000 Kč – (Software, Ostatní)</a:t>
            </a:r>
            <a:r>
              <a:rPr b="0" lang="cs-CZ" sz="1100" spc="-1" strike="noStrike">
                <a:solidFill>
                  <a:srgbClr val="000000"/>
                </a:solidFill>
                <a:latin typeface="Calibri"/>
              </a:rPr>
              <a:t> – zahrnuje nákup drobného nehmotného majetku do 60 000 Kč za kus (pořizovací cena). Může se jednat o nákup softwaru, know-how, licence, studijního programu, případně dalších položek drobného nehmotného majetku;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louhodobý nehmotný majetek (Software, Ostatní) </a:t>
            </a:r>
            <a:r>
              <a:rPr b="0" lang="cs-CZ" sz="1100" spc="-1" strike="noStrike">
                <a:solidFill>
                  <a:srgbClr val="000000"/>
                </a:solidFill>
                <a:latin typeface="Calibri"/>
              </a:rPr>
              <a:t>– zahrnuje celkovou úhradu za nákup dlouhodobého nehmotného majetku nad 60 000 Kč za kus (pořizovací cena), např. licence, know-how, studijní programy, software (i vyvinutý na zakázku) a další. Jedná se o investiční majetek, který však nebude zahrnut do křížového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100" spc="-1" strike="noStrike">
                <a:solidFill>
                  <a:srgbClr val="000000"/>
                </a:solidFill>
                <a:latin typeface="Calibri"/>
              </a:rPr>
              <a:t>Drobný hmotný majetek do 40 000 Kč za kus </a:t>
            </a:r>
            <a:r>
              <a:rPr b="0" lang="cs-CZ" sz="1100" spc="-1" strike="noStrike">
                <a:solidFill>
                  <a:srgbClr val="000000"/>
                </a:solidFill>
                <a:latin typeface="Calibri"/>
              </a:rPr>
              <a:t>– tato položka zahrnuje zejména </a:t>
            </a:r>
            <a:r>
              <a:rPr b="1" lang="cs-CZ" sz="1100" spc="-1" strike="noStrike">
                <a:solidFill>
                  <a:srgbClr val="000000"/>
                </a:solidFill>
                <a:latin typeface="Calibri"/>
              </a:rPr>
              <a:t>nákup výukového a spotřebního materiálu </a:t>
            </a:r>
            <a:r>
              <a:rPr b="0" lang="cs-CZ" sz="1100" spc="-1" strike="noStrike">
                <a:solidFill>
                  <a:srgbClr val="000000"/>
                </a:solidFill>
                <a:latin typeface="Calibri"/>
              </a:rPr>
              <a:t>(tzn. pomůcky pro výuku, které budou spotřebovány v době realizace projektu cílovou skupinou – např. chemikálie), </a:t>
            </a:r>
            <a:r>
              <a:rPr b="1" lang="cs-CZ" sz="1100" spc="-1" strike="noStrike">
                <a:solidFill>
                  <a:srgbClr val="000000"/>
                </a:solidFill>
                <a:latin typeface="Calibri"/>
              </a:rPr>
              <a:t>dále nákup PC sestav </a:t>
            </a:r>
            <a:r>
              <a:rPr b="0" lang="cs-CZ" sz="1100" spc="-1" strike="noStrike">
                <a:solidFill>
                  <a:srgbClr val="000000"/>
                </a:solidFill>
                <a:latin typeface="Calibri"/>
              </a:rPr>
              <a:t>(počítač, monitor, klávesnice, myš) nebo </a:t>
            </a:r>
            <a:r>
              <a:rPr b="1" lang="cs-CZ" sz="1100" spc="-1" strike="noStrike">
                <a:solidFill>
                  <a:srgbClr val="000000"/>
                </a:solidFill>
                <a:latin typeface="Calibri"/>
              </a:rPr>
              <a:t>notebooků, tiskáren, multifunkčních zařízení, mobilů, dataprojektorů, fotografických přístrojů </a:t>
            </a:r>
            <a:r>
              <a:rPr b="0" lang="cs-CZ" sz="1100" spc="-1" strike="noStrike">
                <a:solidFill>
                  <a:srgbClr val="000000"/>
                </a:solidFill>
                <a:latin typeface="Calibri"/>
              </a:rPr>
              <a:t>(sestavu případně tvoří fotoaparát a stativ), </a:t>
            </a:r>
            <a:r>
              <a:rPr b="1" lang="cs-CZ" sz="1100" spc="-1" strike="noStrike">
                <a:solidFill>
                  <a:srgbClr val="000000"/>
                </a:solidFill>
                <a:latin typeface="Calibri"/>
              </a:rPr>
              <a:t>vybavení k výuce </a:t>
            </a:r>
            <a:r>
              <a:rPr b="0" lang="cs-CZ" sz="1100" spc="-1" strike="noStrike">
                <a:solidFill>
                  <a:srgbClr val="000000"/>
                </a:solidFill>
                <a:latin typeface="Calibri"/>
              </a:rPr>
              <a:t>(učebnice a materiál pro výuku, tedy materiál používaný při výuce), </a:t>
            </a:r>
            <a:r>
              <a:rPr b="1" lang="cs-CZ" sz="1100" spc="-1" strike="noStrike">
                <a:solidFill>
                  <a:srgbClr val="000000"/>
                </a:solidFill>
                <a:latin typeface="Calibri"/>
              </a:rPr>
              <a:t>zařízení a přístroje pro výuku a další vybavení a zařízení, která jsou pro realizaci projektu nezbytná a spojená výhradně s realizací projektu</a:t>
            </a:r>
            <a:r>
              <a:rPr b="0" lang="cs-CZ" sz="1100" spc="-1" strike="noStrike">
                <a:solidFill>
                  <a:srgbClr val="000000"/>
                </a:solidFill>
                <a:latin typeface="Calibri"/>
              </a:rPr>
              <a:t>, a další. Do této položky nelze zahrnout nábytek bez ohledu na výši pořizovací ceny (patří vždy do položky Křížové financování).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81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B918B-329F-403A-BDEF-140AE413C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1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488CF-96D9-439C-8348-AAFC0C46C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cs-CZ" sz="1100" spc="-1" strike="noStrike">
              <a:solidFill>
                <a:srgbClr val="000000"/>
              </a:solidFill>
              <a:latin typeface="Calibri"/>
            </a:endParaRPr>
          </a:p>
        </p:txBody>
      </p:sp>
      <p:sp>
        <p:nvSpPr>
          <p:cNvPr id="82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2CD31-5473-4089-82C1-AFB6C591A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je umožněno čl. 34, odst. 2 nařízení Rady (ES) č. 1083/2006 a představuje de facto výjimku z pravidel pro způsobilost výdajů v konkrétním evropském strukturálním fondu. Smyslem křížového financování je umožnit v projektech financovaných z ESF úhradu také některých výdajů, které jsou obvykle způsobilými výdaji pouze pro investiční projekty financované z Evropského fondu pro regionální rozvoj a to pouze za podmínky, že tyto výdaje jsou nezbytné pro dosažení cílů realizovaných projektů a mají přímou vazbu na tyto projekt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Investiční část: </a:t>
            </a:r>
            <a:r>
              <a:rPr b="0" lang="cs-CZ" sz="1200" spc="-1" strike="noStrike">
                <a:solidFill>
                  <a:srgbClr val="000000"/>
                </a:solidFill>
                <a:latin typeface="Calibri"/>
              </a:rPr>
              <a:t>Křížové financování zajišťované z této položky má charakter investice a mohou z něj být realizovány následující výdaj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a) Výdaje na nábytek v pořizovací ceně nad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b) Vybavení: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 účetního hlediska jde o výdaje na nákup </a:t>
            </a:r>
            <a:r>
              <a:rPr b="1" lang="cs-CZ" sz="1200" spc="-1" strike="noStrike">
                <a:solidFill>
                  <a:srgbClr val="000000"/>
                </a:solidFill>
                <a:latin typeface="Calibri"/>
              </a:rPr>
              <a:t>vybavení hmotné povahy s dobou použitelnosti nad 1 rok a pořizovací cenou nad 40 000 Kč za kus</a:t>
            </a:r>
            <a:r>
              <a:rPr b="0" lang="cs-CZ" sz="1200" spc="-1" strike="noStrike">
                <a:solidFill>
                  <a:srgbClr val="000000"/>
                </a:solidFill>
                <a:latin typeface="Calibri"/>
              </a:rPr>
              <a:t>. Pro způsobilost výdajů je nutné respektovat ještě následující podmínky: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se jednat o speciální vybavení, které není možno pořídit v nezbytné kvalitě za cenu nižší než 40 000 Kč;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ybavení musí být používáno k realizaci aktivit, na kterých se podílí cílová skupina (např. školení, výuka, praxe, práce, výcvik atd.); nebo je respektováno výše uvedené finanční omezení pro projektový tým (15 tis. Kč pro jeden přepočtený úvazek).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investiční část: Křížové financování zajišťované z této položky nemá charakter investice a je možné z něj realizovat výdaje spojené s pořízením: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200" spc="-1" strike="noStrike">
                <a:solidFill>
                  <a:srgbClr val="000000"/>
                </a:solidFill>
                <a:latin typeface="Calibri"/>
              </a:rPr>
              <a:t>a) nábytku v pořizovací ceně do 40 000 Kč;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b) vestavěných skříní s pořizovací cenou do 40 000 Kč (vestavěné skříně s vyšší pořizovací cenou jsou technickým zhodnocením nemovitosti).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800" spc="-1" strike="noStrike">
                <a:solidFill>
                  <a:srgbClr val="000000"/>
                </a:solidFill>
                <a:latin typeface="Calibri"/>
              </a:rPr>
              <a:t>Výdaj v položce křížového financování může uplatnit pouze příjemce/partner, který daný majetek daňově neodepisuje,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 Příjemce/partner, který daný majetek daňově odepisuje, nemá možnost využít křížového financování, ale v případě pořízení vybavení nad 40 tis Kč uplatňuje v jednotlivých letech daňové odpisy. </a:t>
            </a:r>
            <a:endParaRPr b="0" lang="en-US" sz="8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82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95DC2-1ED6-4F0C-951F-0B92559BF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řížové financování </a:t>
            </a:r>
            <a:r>
              <a:rPr b="0" lang="cs-CZ" sz="1200" spc="-1" strike="noStrike">
                <a:solidFill>
                  <a:srgbClr val="000000"/>
                </a:solidFill>
                <a:latin typeface="Calibri"/>
              </a:rPr>
              <a:t>- V rámci této výzvy je možné v souladu s čl. 34, odst. 2 nařízení Rady (ES) č. 1083/2006 využívat tzv. „křížového financování“, které představuje úhradu některých výdajů projektů financovaných z ESF, které jsou obvykle způsobilými výdaji pouze v rámci pravidel financování z </a:t>
            </a:r>
            <a:r>
              <a:rPr b="1" lang="cs-CZ" sz="1200" spc="-1" strike="noStrike">
                <a:solidFill>
                  <a:srgbClr val="000000"/>
                </a:solidFill>
                <a:latin typeface="Calibri"/>
              </a:rPr>
              <a:t>Evropského fondu pro regionální rozvoj za podmínky</a:t>
            </a:r>
            <a:r>
              <a:rPr b="0" lang="cs-CZ" sz="1200" spc="-1" strike="noStrike">
                <a:solidFill>
                  <a:srgbClr val="000000"/>
                </a:solidFill>
                <a:latin typeface="Calibri"/>
              </a:rPr>
              <a:t>, že tyto výdaje jsou nezbytné pro dosažení cílů realizovaných projektů a mají přímou vazbu na tyto projekty. Výdaje spadající do křížového financování musí být způsobilé v souladu s Příručkou pro žada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rámci této výzvy je umožněno využívat křížového financování do maximální výše </a:t>
            </a:r>
            <a:r>
              <a:rPr b="1" lang="cs-CZ" sz="1200" spc="-1" strike="noStrike">
                <a:solidFill>
                  <a:srgbClr val="000000"/>
                </a:solidFill>
                <a:latin typeface="Calibri"/>
              </a:rPr>
              <a:t>9 % celkových způsobilých výdajů individuálního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 </a:t>
            </a:r>
            <a:r>
              <a:rPr b="0" lang="cs-CZ" sz="1200" spc="-1" strike="noStrike">
                <a:solidFill>
                  <a:srgbClr val="000000"/>
                </a:solidFill>
                <a:latin typeface="Calibri"/>
              </a:rPr>
              <a:t>projektu jsou náklady, které nejsou nebo nemohou být jednoznačně spojené s konkrétní aktivitou daného projektu. Tyto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439AC-D67D-4D81-81A4-D8D8CADA4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je žadatel OSS, je v této kapitole rozpočtu možno čerpat finanční prostředky na zabezpečení provozu kanceláře, která slouží k řízení projektu. Za způsobilé výdaje jsou považovány výdaje za materiál a služby, které souvisejí s řízením projektu a jsou pro zabezpečení realizace projektu nezbytné. Do této kapitoly se nezahrnuje pronájem místností určených pro práci s cílovou skupinou, např. školicí prostory a související nákla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íl výdajů celé kapitoly Místní kancelář na celkových způsobilých výdajích projektu smí činit </a:t>
            </a:r>
            <a:r>
              <a:rPr b="1" lang="cs-CZ" sz="1200" spc="-1" strike="noStrike">
                <a:solidFill>
                  <a:srgbClr val="000000"/>
                </a:solidFill>
                <a:latin typeface="Calibri"/>
              </a:rPr>
              <a:t>nejvýše 8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spotřební zboží a provozní materiál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telefon, poštovné, fax – včetně internetu;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200" spc="-1" strike="noStrike">
                <a:solidFill>
                  <a:srgbClr val="000000"/>
                </a:solidFill>
                <a:latin typeface="Calibri"/>
              </a:rPr>
              <a:t> </a:t>
            </a:r>
            <a:r>
              <a:rPr b="1" lang="pl-PL" sz="1200" spc="-1" strike="noStrike">
                <a:solidFill>
                  <a:srgbClr val="000000"/>
                </a:solidFill>
                <a:latin typeface="Calibri"/>
              </a:rPr>
              <a:t>spotřeba vody, paliv a energie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 </a:t>
            </a:r>
            <a:r>
              <a:rPr b="1" lang="cs-CZ" sz="1200" spc="-1" strike="noStrike">
                <a:solidFill>
                  <a:srgbClr val="000000"/>
                </a:solidFill>
                <a:latin typeface="Calibri"/>
              </a:rPr>
              <a:t>nájemné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Dále je možno do této kapitoly zahrnout výdaje např. na zajištění úklidu, ostrahy apod.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CBC00-2473-41DF-9317-4DD438004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Publikace/školicí materiály/manuály – </a:t>
            </a:r>
            <a:r>
              <a:rPr b="0" lang="cs-CZ" sz="1000" spc="-1" strike="noStrike">
                <a:solidFill>
                  <a:srgbClr val="000000"/>
                </a:solidFill>
                <a:latin typeface="Calibri"/>
              </a:rPr>
              <a:t>jedná se o nákup na zakázku vyvíjených nebo vytvářených 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Odborné služby/Studie a výzkum – </a:t>
            </a:r>
            <a:r>
              <a:rPr b="0" lang="cs-CZ" sz="1000" spc="-1" strike="noStrike">
                <a:solidFill>
                  <a:srgbClr val="000000"/>
                </a:solidFill>
                <a:latin typeface="Calibri"/>
              </a:rPr>
              <a:t>zahrnuje např. výdaje na zpracování studií, analýz, sběr dat a zajištění tlumočení a dalších dílčích výzkumných úkolů nezbytných pro realizaci projektu.   V této položce se např. také vykazuje zajištění účetnictví/mzdového účetnictví externím dodavatelem a odměna přizvanému zahraničnímu expertovi za činnosti na základě smlouvy o dílo.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Calibri"/>
              </a:rPr>
              <a:t> </a:t>
            </a:r>
            <a:r>
              <a:rPr b="1" lang="cs-CZ" sz="1000" spc="-1" strike="noStrike">
                <a:solidFill>
                  <a:srgbClr val="000000"/>
                </a:solidFill>
                <a:latin typeface="Calibri"/>
              </a:rPr>
              <a:t>Výdaje na konference/kurzy – </a:t>
            </a:r>
            <a:r>
              <a:rPr b="0" lang="cs-CZ" sz="1000" spc="-1" strike="noStrike">
                <a:solidFill>
                  <a:srgbClr val="000000"/>
                </a:solidFill>
                <a:latin typeface="Calibri"/>
              </a:rPr>
              <a:t>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Calibri"/>
              </a:rPr>
              <a:t>Dodavatelem služeb v rámci projektu nemůže být osoba, která má uzavřen pracovně právní vztah s příjemcem/partnerem, a výdaje na něj jsou hrazeny v rámci kapitoly rozpočtu 1 – Osobní výdaje související s realizací projektu.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83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15918-CFEA-4881-AA7B-692379408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odpora účastníků (stravování, ubytování) – </a:t>
            </a:r>
            <a:r>
              <a:rPr b="0" lang="cs-CZ" sz="1200" spc="-1" strike="noStrike">
                <a:solidFill>
                  <a:srgbClr val="000000"/>
                </a:solidFill>
                <a:latin typeface="Calibri"/>
              </a:rPr>
              <a:t>v této položce jsou zahrnuty výdaje spojené se zajištěním občerstvení, stravování a ubytování účastníků konferencí nebo kurzů, které jsou rozpočtované v předchozí položce. Ubytování účastníků je možno hradit jen cílové skupině. Stravování lze poskytnout i dalším účastníkům akce, pokud bude zdůvodněna jejich souvislost s realizací projektu. Stravné (i ubytování) realizačního týmu je zahrnuto v rozpočtu v kapitole 2 - Cestovní náhr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iné výdaje – </a:t>
            </a:r>
            <a:r>
              <a:rPr b="0" lang="cs-CZ" sz="1200" spc="-1" strike="noStrike">
                <a:solidFill>
                  <a:srgbClr val="000000"/>
                </a:solidFill>
                <a:latin typeface="Calibri"/>
              </a:rPr>
              <a:t>výdaje na právní poradenství, znalecké posudky, na administraci zakázek, </a:t>
            </a:r>
            <a:r>
              <a:rPr b="1" lang="cs-CZ" sz="1200" spc="-1" strike="noStrike">
                <a:solidFill>
                  <a:srgbClr val="000000"/>
                </a:solidFill>
                <a:latin typeface="Calibri"/>
              </a:rPr>
              <a:t>zajišťovanou externím dodavatelem </a:t>
            </a:r>
            <a:r>
              <a:rPr b="0" lang="cs-CZ" sz="1200" spc="-1" strike="noStrike">
                <a:solidFill>
                  <a:srgbClr val="000000"/>
                </a:solidFill>
                <a:latin typeface="Calibri"/>
              </a:rPr>
              <a:t>a další výše nespecifikované služby, pokud přímo souvisejí s činnostmi projektu a pokud jsou nezbytné pro jeho realizaci (např. náklady na nezbytné vzdělávání členů realizačního týmu související s projekt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ále sem patří i výdaje na služby zajišťované pro cílovou skupinu např. </a:t>
            </a:r>
            <a:r>
              <a:rPr b="1" lang="cs-CZ" sz="1200" spc="-1" strike="noStrike">
                <a:solidFill>
                  <a:srgbClr val="000000"/>
                </a:solidFill>
                <a:latin typeface="Calibri"/>
              </a:rPr>
              <a:t>doprava pro cílovou skupinu, která je a fakturována příjemci dopravcem a nejedná se o proplácení jízdného na základě předložených jízdenek přímo cílové skupině</a:t>
            </a:r>
            <a:r>
              <a:rPr b="0" lang="cs-CZ" sz="1200" spc="-1" strike="noStrike">
                <a:solidFill>
                  <a:srgbClr val="000000"/>
                </a:solidFill>
                <a:latin typeface="Calibri"/>
              </a:rPr>
              <a:t>. </a:t>
            </a:r>
            <a:endParaRPr b="0" lang="en-US" sz="1200" spc="-1" strike="noStrike">
              <a:solidFill>
                <a:srgbClr val="000000"/>
              </a:solidFill>
              <a:latin typeface="Calibri"/>
            </a:endParaRPr>
          </a:p>
        </p:txBody>
      </p:sp>
      <p:sp>
        <p:nvSpPr>
          <p:cNvPr id="83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B6831-2433-4110-8E1C-D3272671F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8B702-B2F8-4A11-BE63-0DF12D040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Součástí projektu mohou být stavební úpravy, které bezprostředně souvisejí s realizovaným projektem. Položky rozpočtu v této kapito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robné stavební úpravy – p</a:t>
            </a:r>
            <a:r>
              <a:rPr b="0" lang="cs-CZ" sz="1200" spc="-1" strike="noStrike">
                <a:solidFill>
                  <a:srgbClr val="000000"/>
                </a:solidFill>
                <a:latin typeface="Calibri"/>
              </a:rPr>
              <a:t>odmínkou způsobilosti těchto výdajů je, že nesmějí přesáhnout částku za všechny dokončené stavební úpravy v jednom zdaňovacím období v úhrnu 40 000 Kč (pořizovací cena) na kaţžou jednotlivou účetní položku majetku. Stavební úprava musí být provedena bezprostředně s úpravou pracovního místa pro osoby se zdravotním postižením nebo úpravou přístupu pro osoby se zdravotním postižením nebo úpravou výukových, tréninkových nebo pracovních prostor používaných na realizaci aktivit s cílovou skupinou. Pouhé pořízení materiálu (malířské barvy, štuku apod. a následná práce provedená svépomocí či hrazena z jiných než projektových prostředků) není považováno za provedení stavebních úprav.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avební úpravy v rámci křížového financování – </a:t>
            </a:r>
            <a:r>
              <a:rPr b="0" lang="cs-CZ" sz="1200" spc="-1" strike="noStrike">
                <a:solidFill>
                  <a:srgbClr val="000000"/>
                </a:solidFill>
                <a:latin typeface="Calibri"/>
              </a:rPr>
              <a:t>stavební úpravy, pokud převýšily u jednotlivého majetku v úhrnu ve zdaňovacím období částku 40 000 Kč (pořizovací cena), spadají do této položky. Jedná se o 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bezprostředně na realizaci aktivit s cílovou skupino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54D4B-DB70-4ABE-A4D8-C63159A85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Mzdové příspěvky – </a:t>
            </a:r>
            <a:r>
              <a:rPr b="0" lang="cs-CZ" sz="1200" spc="-1" strike="noStrike">
                <a:solidFill>
                  <a:srgbClr val="000000"/>
                </a:solidFill>
                <a:latin typeface="Calibri"/>
              </a:rPr>
              <a:t>jsou poskytovány zaměstnavateli jako náhrada části mzdových nákladů (ve výši hrubé mzdy včetně zákonných odvodů) na jejich pracovníka po dobu jeho účasti na dalším vzdělávání. Mzdové náhrady se v rámci programu OP VK mohou týkat pouze pedagogických, akademických a dalších pracovníků ve školství, pracovníků výzkumu a vývoje (VaV), a mohou být poskytovány až do výše 100 % skutečně vyplacených mzdových nákladů (tj. hrubé mzdy včetně zákonných odvodů na zdravotní a sociální pojištění), nejvýše však do výše číselně odpovídající trojnásobku minimální mzdy platné v době konání školení.</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93E7A-8160-49E6-8161-4CF3AC37D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estovné, ubytování a stravné – </a:t>
            </a:r>
            <a:r>
              <a:rPr b="0" lang="cs-CZ" sz="1200" spc="-1" strike="noStrike">
                <a:solidFill>
                  <a:srgbClr val="000000"/>
                </a:solidFill>
                <a:latin typeface="Calibri"/>
              </a:rPr>
              <a:t>pokrytí nákladů spojených s realizací praxí, stáží, exkurzí a vícedenních vzdělávacích pobytů, kdy je jednorázově hrazeno ubytování, cestovné a stravn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Jízdní výdaje </a:t>
            </a:r>
            <a:r>
              <a:rPr b="0" lang="cs-CZ" sz="1200" spc="-1" strike="noStrike">
                <a:solidFill>
                  <a:srgbClr val="000000"/>
                </a:solidFill>
                <a:latin typeface="Calibri"/>
              </a:rPr>
              <a:t>(např. na základě předložených cestovních dokladů pro hromadnou dopravu ve 2. třídě). V případě použití silničního motorového vozidla jsou způsobilé výdaje omezeny částkou odpovídající jízdence 2. třídy hromadné dopravy násobené počtem osob cílové skupiny, které se ve vozidle přepravovaly. Výjimku tvoří použití silničního motorového vozidla v případě, že bude doloženo, že hromadnou dopravu nebylo moţno použít, např. při přepravě handicapovaných osob nebo když jízdní řády hromadné dopravy nenabízejí vhodný použitelný spoj.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Ubytování – </a:t>
            </a:r>
            <a:r>
              <a:rPr b="0" lang="cs-CZ" sz="1200" spc="-1" strike="noStrike">
                <a:solidFill>
                  <a:srgbClr val="000000"/>
                </a:solidFill>
                <a:latin typeface="Calibri"/>
              </a:rPr>
              <a:t>zástupcům cílových skupin je možné hradit výdaje v úrovni cen v místě obvyklých, v ČR nejvýše však 1 500 Kč za osobu a noc (pro hl. město Prahu se limit zvyšuje na 2 000 Kč za osobu a noc)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bytování v zahraničí </a:t>
            </a:r>
            <a:r>
              <a:rPr b="1" lang="cs-CZ" sz="1200" spc="-1" strike="noStrike">
                <a:solidFill>
                  <a:srgbClr val="000000"/>
                </a:solidFill>
                <a:latin typeface="Calibri"/>
              </a:rPr>
              <a:t>–</a:t>
            </a:r>
            <a:r>
              <a:rPr b="0" lang="cs-CZ" sz="1200" spc="-1" strike="noStrike">
                <a:solidFill>
                  <a:srgbClr val="000000"/>
                </a:solidFill>
                <a:latin typeface="Calibri"/>
              </a:rPr>
              <a:t> adekvátní ubytování v hotelu za ceny v místě obvyklé, zpravidla v kategorii ***, u žáků a studentů se za vhodné pokládá ubytování v rodinách, hostelech, internátech, turistických ubytovnách nebo VŠ kolejích.</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travování – </a:t>
            </a:r>
            <a:r>
              <a:rPr b="0" lang="cs-CZ" sz="1200" spc="-1" strike="noStrike">
                <a:solidFill>
                  <a:srgbClr val="000000"/>
                </a:solidFill>
                <a:latin typeface="Calibri"/>
              </a:rPr>
              <a:t>v ČR lze hradit nejvýše do úrovně 300 Kč na osobu za celodenní stravování (pokud interní předpisy příjemce nestanoví nižší limit), v zahraničí za ceny v místě obvykl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oprovodné aktivity – </a:t>
            </a:r>
            <a:r>
              <a:rPr b="0" lang="cs-CZ" sz="1200" spc="-1" strike="noStrike">
                <a:solidFill>
                  <a:srgbClr val="000000"/>
                </a:solidFill>
                <a:latin typeface="Calibri"/>
              </a:rPr>
              <a:t>z této položky se hradí další výdaje související se zapojením cílové skupiny v projektu (např. vstupenky na akce, kterých se cílová skupina účastní v rámci projektu apod.), dále je možné hradit výdaje spojené se zajištěním asistenta/asistentských služeb poskytovaných přímo zástupcům cílových skupin, např. žákům se speciálními potřebami, handicapovaným apod., dále pak i pro úhradu nutných nákladů (ve výši místně obvyklé) spojených s péčí o děti nebo jiné závislé osoby tak, aby se tato osoba mohla zapojit do aktivit projekt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418C7-6D4E-45BD-A11A-07149F93B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 </a:t>
            </a:r>
            <a:r>
              <a:rPr b="0" lang="cs-CZ" sz="1200" spc="-1" strike="noStrike">
                <a:solidFill>
                  <a:srgbClr val="000000"/>
                </a:solidFill>
                <a:latin typeface="Calibri"/>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epřímé nákla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ublicita</a:t>
            </a:r>
            <a:r>
              <a:rPr b="0" lang="cs-CZ" sz="1200" spc="-1" strike="noStrike">
                <a:solidFill>
                  <a:srgbClr val="000000"/>
                </a:solidFill>
                <a:latin typeface="Calibri"/>
              </a:rPr>
              <a:t> – zajištění publicity pomoci z ESF (zejména dle článku 8 nařízení Komise (ES) č. 1828/2006), včetně monitoringu tisku (např. inzerce, pronájem prostor pro tiskovou konferenci, občerstvení na tiskovou konferenci, výroba propagačních předmětů, letáků apod.), s výjimkou případů, kdy jsou opatření publicity hlavní činností projektu (zejména u projektů zaměřených na změnu povědomí cílové skupiny apo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Ostatní – </a:t>
            </a:r>
            <a:r>
              <a:rPr b="0" lang="cs-CZ" sz="1200" spc="-1" strike="noStrike">
                <a:solidFill>
                  <a:srgbClr val="000000"/>
                </a:solidFill>
                <a:latin typeface="Calibri"/>
              </a:rPr>
              <a:t>tato položka zahrnuje nezbytné další výdaje spojené s realizací projektu. Jedná se o správní poplatky, notářské poplatky, překlady dokumentů apod., které jsou pro realizaci projektu nezbytné. </a:t>
            </a:r>
            <a:endParaRPr b="0" lang="en-US" sz="1200" spc="-1" strike="noStrike">
              <a:solidFill>
                <a:srgbClr val="000000"/>
              </a:solidFill>
              <a:latin typeface="Calibri"/>
            </a:endParaRPr>
          </a:p>
        </p:txBody>
      </p:sp>
      <p:sp>
        <p:nvSpPr>
          <p:cNvPr id="84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1B097-91CA-4F51-AA7F-62F782E04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římé náklady zahrnují zejména náklady spojené s administrací projektu. Kromě nákladů na administraci sem mohou být zařazeny také náklady, které souvisí s prací s cílovou skupinou, nicméně jsou vykonávány v rámci běžných činností organizace příjemce pomoci nebo partnera a nelze je proto jednoznačně přiřadit k aktivitám projektu. Vzhledem k tomu, ţe NN jsou svojí povahou neinvestiční, nemohou být v rámci NN hrazeny investiční výdaj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55427-3D57-49FD-B483-AFFFE8F23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Kapitola 09.01. Přímé výdaje bez křížového financování. V této prezentaci print screen ze staré verze rozpočt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klad: Způsobilé přímé výdaje projektu jsou 14 100 000 Kč. Z toho činí výdaje na křížové financování 100 000 Kč. Základ pro výpočet nepřímých nákladů je 14 000 000 Kč. Ve výzvě je uvedeno, že nepřímé náklady projektu v intervalu 10-15 mil. Kč činí 12 %. 12 % ze 14 000 000 Kč = 1 680 000 Kč. Benefit automaticky zahrne do rozpočtu částku 1 680 000 Kč na nepřímé náklady. Celkové způsobilé výdaje projektu (přímé a nepřímé) budou činit 14 100 000 + 1 680 000 = 15 780 000 Kč.</a:t>
            </a:r>
            <a:endParaRPr b="0" lang="en-US" sz="1200" spc="-1" strike="noStrike">
              <a:solidFill>
                <a:srgbClr val="000000"/>
              </a:solidFill>
              <a:latin typeface="Calibri"/>
            </a:endParaRPr>
          </a:p>
        </p:txBody>
      </p:sp>
      <p:sp>
        <p:nvSpPr>
          <p:cNvPr id="8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CFB09-6D2D-4B6E-8C96-A827B38F613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způsobilé výdaje jsou také výdaje, které nejsou vynaloženy v souladu s cíli projektu a současně nejsou pro jejich dosažení nezbytné. Dále se jedná o výdaje, které nejsou přiměřené a nejsou vynaloženy v souladu s principem hospodárnosti a efektivnosti nebo v souladu s evropskou nebo českou legislativou. </a:t>
            </a:r>
            <a:endParaRPr b="0" lang="en-US" sz="1200" spc="-1" strike="noStrike">
              <a:solidFill>
                <a:srgbClr val="000000"/>
              </a:solidFill>
              <a:latin typeface="Calibri"/>
            </a:endParaRPr>
          </a:p>
        </p:txBody>
      </p:sp>
      <p:sp>
        <p:nvSpPr>
          <p:cNvPr id="85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CC771-B8A5-42B4-B69B-7BB6B8B69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82301-D16D-4278-A7C5-B06B92C99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 Pracovní smlouvy se vyplní hrubá mzda a velikost úvazku, v poli Přepočet podle úvazku se objeví částka, kterou zanesete do položky Rozpočtu. Údaje se automaticky nepřenáší.</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772A9-D875-4552-A950-C3748282E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C4A87-5E61-4710-97A5-91216ABCE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charakter výdaje </a:t>
            </a:r>
            <a:r>
              <a:rPr b="0" lang="cs-CZ" sz="1200" spc="-1" strike="noStrike">
                <a:solidFill>
                  <a:srgbClr val="000000"/>
                </a:solidFill>
                <a:latin typeface="Calibri"/>
              </a:rPr>
              <a:t>– výdaje musejí být </a:t>
            </a:r>
            <a:r>
              <a:rPr b="1" lang="cs-CZ" sz="1200" spc="-1" strike="noStrike">
                <a:solidFill>
                  <a:srgbClr val="000000"/>
                </a:solidFill>
                <a:latin typeface="Calibri"/>
              </a:rPr>
              <a:t>přiměřené</a:t>
            </a:r>
            <a:r>
              <a:rPr b="0" lang="cs-CZ" sz="1200" spc="-1" strike="noStrike">
                <a:solidFill>
                  <a:srgbClr val="000000"/>
                </a:solidFill>
                <a:latin typeface="Calibri"/>
              </a:rPr>
              <a:t> (musejí odpovídat cenám v místě, oboru a čase obvyklým) a musejí být vynaloženy v souladu s principy </a:t>
            </a:r>
            <a:r>
              <a:rPr b="1" lang="cs-CZ" sz="1200" spc="-1" strike="noStrike">
                <a:solidFill>
                  <a:srgbClr val="000000"/>
                </a:solidFill>
                <a:latin typeface="Calibri"/>
              </a:rPr>
              <a:t>hospodárnosti </a:t>
            </a:r>
            <a:r>
              <a:rPr b="0" lang="cs-CZ" sz="1200" spc="-1" strike="noStrike">
                <a:solidFill>
                  <a:srgbClr val="000000"/>
                </a:solidFill>
                <a:latin typeface="Calibri"/>
              </a:rPr>
              <a:t>(minimalizace výdajů při respektování cílů projektu), </a:t>
            </a:r>
            <a:r>
              <a:rPr b="1" lang="cs-CZ" sz="1200" spc="-1" strike="noStrike">
                <a:solidFill>
                  <a:srgbClr val="000000"/>
                </a:solidFill>
                <a:latin typeface="Calibri"/>
              </a:rPr>
              <a:t>účelnosti</a:t>
            </a:r>
            <a:r>
              <a:rPr b="0" lang="cs-CZ" sz="1200" spc="-1" strike="noStrike">
                <a:solidFill>
                  <a:srgbClr val="000000"/>
                </a:solidFill>
                <a:latin typeface="Calibri"/>
              </a:rPr>
              <a:t> (přímá vazba na projekt a nezbytnosti pro realizaci projektu) a </a:t>
            </a:r>
            <a:r>
              <a:rPr b="1" lang="cs-CZ" sz="1200" spc="-1" strike="noStrike">
                <a:solidFill>
                  <a:srgbClr val="000000"/>
                </a:solidFill>
                <a:latin typeface="Calibri"/>
              </a:rPr>
              <a:t>efektivnosti </a:t>
            </a:r>
            <a:r>
              <a:rPr b="0" lang="cs-CZ" sz="1200" spc="-1" strike="noStrike">
                <a:solidFill>
                  <a:srgbClr val="000000"/>
                </a:solidFill>
                <a:latin typeface="Calibri"/>
              </a:rPr>
              <a:t>(maximalizace poměru mezi výstupy a vstupy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účel výdaje</a:t>
            </a:r>
            <a:r>
              <a:rPr b="0" lang="cs-CZ" sz="1200" spc="-1" strike="noStrike">
                <a:solidFill>
                  <a:srgbClr val="000000"/>
                </a:solidFill>
                <a:latin typeface="Calibri"/>
              </a:rPr>
              <a:t> </a:t>
            </a:r>
            <a:r>
              <a:rPr b="0" i="1" lang="cs-CZ" sz="1200" spc="-1" strike="noStrike">
                <a:solidFill>
                  <a:srgbClr val="000000"/>
                </a:solidFill>
                <a:latin typeface="Calibri"/>
              </a:rPr>
              <a:t>– výdaje musejí být uskutečněny na typy činností, které odpovídají požadavkům stanoveným OP VK, v Prováděcím dokumentu OPVK resp. konkrétní výzvou k předkládání žádostí, a musejí být prokazatelně vynaloženy na aktivity v souladu s obsahovou stránkou a cíli projektu;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rokazatelnost výdaje </a:t>
            </a:r>
            <a:r>
              <a:rPr b="0" lang="cs-CZ" sz="1200" spc="-1" strike="noStrike">
                <a:solidFill>
                  <a:srgbClr val="000000"/>
                </a:solidFill>
                <a:latin typeface="Calibri"/>
              </a:rPr>
              <a:t>– </a:t>
            </a:r>
            <a:r>
              <a:rPr b="1" lang="cs-CZ" sz="1200" spc="-1" strike="noStrike">
                <a:solidFill>
                  <a:srgbClr val="000000"/>
                </a:solidFill>
                <a:latin typeface="Calibri"/>
              </a:rPr>
              <a:t>výdaje musejí být identifikovatelné a prokazatelné a musí být doložitelné potvrzenými účetními doklady</a:t>
            </a:r>
            <a:r>
              <a:rPr b="0" lang="cs-CZ" sz="1200" spc="-1" strike="noStrike">
                <a:solidFill>
                  <a:srgbClr val="000000"/>
                </a:solidFill>
                <a:latin typeface="Calibri"/>
              </a:rPr>
              <a:t>, tzn. musejí být definitivní a zachycené odpovídajícím způsobem a v souladu s požadavky české legislativy v účetnictví nebo daňové evidenci předkladatele projektu. Výdaje musejí být zaplaceny a zaplacení musí být doloženo (s výjimkou odpisů, nepřímých výdajů a režijních nákladů (náklady budou vyúčtovány na základě skutečných vyúčtování od dodavatelů. Do způsobilých výdajů se budou režijní náklady zahrnovat na základě vyúčtování od dodavatelů, nebo na základě zálo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datum uskutečnění výdaje – výdaje musejí vzniknout a být uhrazeny v průběhu realizace projektu</a:t>
            </a:r>
            <a:r>
              <a:rPr b="0" lang="cs-CZ" sz="1200" spc="-1" strike="noStrike">
                <a:solidFill>
                  <a:srgbClr val="000000"/>
                </a:solidFill>
                <a:latin typeface="Calibri"/>
              </a:rPr>
              <a:t>. Nebude-li uvedeno v Rozhodnutí o poskytnutí dotace/Opatření vrchního ředitele/ve Smlouvě o realizaci GP jinak, jsou výdaje způsobilé od data zahájení realizace projektu stanoveného ve smlouvě, nejdříve však od data podpisu Smlouvy o realizaci GP nebo </a:t>
            </a:r>
            <a:r>
              <a:rPr b="1" lang="cs-CZ" sz="1200" spc="-1" strike="noStrike">
                <a:solidFill>
                  <a:srgbClr val="000000"/>
                </a:solidFill>
                <a:latin typeface="Calibri"/>
              </a:rPr>
              <a:t>data akceptace Rozhodnutí</a:t>
            </a:r>
            <a:r>
              <a:rPr b="0" lang="cs-CZ" sz="1200" spc="-1" strike="noStrike">
                <a:solidFill>
                  <a:srgbClr val="000000"/>
                </a:solidFill>
                <a:latin typeface="Calibri"/>
              </a:rPr>
              <a:t> nebo o poskytnutí dotace/Opatření vrchního ředite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239DF-E0FD-469E-92B6-267C47C56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y 3, 5 a 7 mají limitovanou výši – nesmějí překročit uvedené procento z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DA762-2745-4387-90E6-9B95977D0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F624F-CC8D-403E-ADF3-73B36E155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69726-CD0F-4BD3-8F67-19BF9175C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A3ABB-2056-4E2B-B6AA-34C19C9AAD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82282B-0893-4866-BB8C-C5EB8CE7A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3C713-4B43-48D7-A6C2-1F7999849F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28CB0-73FA-4458-81AA-255B58BE3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E0436-3036-4A04-BEE8-2F63D21FC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A6A7C-D179-4F30-88DC-A0617E75C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F0661-14B2-4F9C-802F-3168650A7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16FE23-CB78-4AD0-8AB7-73D21CC446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F2AA15-70F6-489E-BE70-B3781EDA3A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BFC743-A777-40FF-A4F5-6C83A4FBB3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49381-52B9-4695-A073-349822E8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1C563D-6629-462F-9C87-DCBA5F49A5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40F001-7F49-4C75-8DE1-E8EC357D9E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8FE0A0-AE6F-4328-B94F-79BAAFE67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0CBB7C-875C-4D26-9223-D050321151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CE6B89-9576-4F89-9AF9-69308FC70B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A2F6E3-76B8-4F37-B965-38D6B41FAE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2F07DB-A0F9-425E-A1AC-B640D1FA4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95BD97-E839-40D6-8A42-5E8ABDF0A9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54271E-712B-4B52-95F0-B80103A8F2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B4B9F2-2379-467B-AA4A-86B11DAD68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DD3E3-D2F6-4D7D-9EA5-18D5976FC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FBA37B-95E2-4DB5-BFC8-8152F4D85A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4636DD-32EC-4FB6-9C11-9517F953FD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1D5888-157C-4818-9A08-51BBDFC140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C87A3F-A8BA-41D7-A8E9-E2B968EAA6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C6E98-005A-40CD-98FA-23E93D1FB0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3287D3-34BE-4603-9FC8-6920129B3E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C17E55-8682-46DE-B74B-ACEBA2A2DC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FFB6F-5683-410B-8D67-8D369BD7B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818EBE-D3D8-4CFE-8FA4-FDD7418D27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F0CAF8-9B04-4F7B-A8C0-F0529B4B2F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0E3CB-34F8-403A-B69F-85C0A0835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3DB4AC-D1C5-4649-B096-7E814EC1D0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53629A-03C8-4114-A658-2BC79F38E9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6122B6-D808-4671-9EAC-F9EDF4C9A0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73E792-4670-4B68-89EF-957487B57E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755068-5631-4E7B-BB93-0D866E77C8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884CF9-0384-43F1-A8DD-EE4E0FD316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A33837-6F96-4DF4-8393-98C88721CD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72CF7C-6725-44A4-ABE1-5E2CFCF858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6B9EE3-D9ED-4536-86AB-8A46A66B9A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7C3107-BFCD-4E71-843C-684C4AC20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7B5D8-38D8-4993-9940-DFD80228B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8B3D32-4503-4FBD-8EA7-02BA0C0EFB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BE6369-1D68-4AC6-A52F-420588CC29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309C9C-05CE-4536-8D4E-C9D2639AB4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A91AAC-D8D8-4AA0-B6C4-C93FE58FEB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48EA55-AC3F-4DED-B25D-85978E3C8D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2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2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0FCAD-6BD4-4D26-B211-D8361AFB2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4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FA4EB-3F35-4E42-BEAD-540FA8B88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C5D09-8ED9-40CD-A443-877C2C1EC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DB45A-D2F0-475D-9DED-9C5B3E4A6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62C26-5A75-4D0B-B095-89A6354DD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5867-C920-4536-BDAF-E9F2C778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64976-91B0-4BF8-A1CC-678A25C8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2B738-84C9-43E0-B50A-B483E47FA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014C2-6E2D-4741-ACA3-7F2756256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B5520-C242-479B-8D9A-EDC534DFA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9DABC-BB30-42D4-8BFD-21D8F505D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AEBEC-0276-4428-9BE6-30F04A181E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747BA-D18A-436E-8B90-5043D6D08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6322D-78A3-4CCD-8976-82DEEA192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DD787-80E7-4C40-B6ED-0C85A22AC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E4632-9229-4638-AE02-79DAF8FD1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E3E9F-35F7-4EB3-A0D3-E21AC4E5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75B9E-FB73-4F8D-8044-94172C3F4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33D6D-201C-46FC-AB54-2DE76D901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7247B-53EC-49B4-BCFD-5F5E7E861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E5432-AB0D-462D-B483-A65B14657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FAFA3-86C0-48D4-91C0-58C6514A3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FABF0-4873-4383-8973-3E2F8FE37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02D7A6-E68B-4567-9FA5-240411FB7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A38D42-0CA9-459F-92A2-21C9C2122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2D970-4145-43E6-8992-4BC106FE0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83BED-8F0A-4403-9F82-DF4446040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1BEE7-537F-4CE5-8437-E3E5B06DB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A5A26-07B9-457D-9721-35C271767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A4F80-D3CC-4D49-8576-3F0F3B5D2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56146-9033-4680-B923-F4F0A2844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76773-EB76-49D6-B3BF-21141BC49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D76AA-15A5-42ED-BDCB-464DF4DCD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251C9-01F9-4FC9-814E-93E864D3B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23C02-8110-41AD-B168-43B4130025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342A5-04B5-45F2-AD3C-4FBED55626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6D4F8-F957-497E-AF50-AFF1938493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1E77E2-4537-45BE-9C05-F196C149E4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30232-ACB8-4B82-9E20-1C15584D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B23C0-86E9-4C3F-9EC3-8736F770E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AF6B1-7CAB-469D-8F03-3DB587397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14D8D-B0A4-485E-B491-C16D2DBE1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7693B-2568-4D96-BCC7-8B05A8F1D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01F8E-90B8-4453-9050-B3F7529D2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D8EF5-C4A8-44AB-9675-697480F34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DB93E-66E1-497A-A514-6FCBF14B7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BB932-D522-4F93-BC91-136EFC50D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2CED1-48E6-41A5-9FF3-88C97BAA0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9428F-6926-44CA-BC93-377398D92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67B13-1B31-42DA-BC5A-4EF3247A2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F90989-CE05-40D9-99AC-1A4265CDB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AE776-F31C-4731-B940-9AE1538FD7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C3A9C7-4746-43FC-9E51-C27208028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54A62-906B-4CEC-8A83-53F4C5114F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9F27E-47AE-46A2-80F1-E6174BFF9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81620-1600-4C40-9D45-05CA27F87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A74B4-1231-4396-B00A-ADA90EA3D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D4DCB-2046-49D7-BFC4-1D8E85C6C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72B1A-791D-453E-A0F6-F0344078F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E82D4-A1B2-4464-B8B9-3429F6AE7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F27B-E1D3-42E5-8E95-BFF4DC3AC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BDA33-3363-4DFF-8C3E-B9D4B33C2A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03318C-EC6B-49AB-81B0-D1DC5FF6D5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AB6C09-3D86-4835-AEFE-22E2C0CB1D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B79A83-EC3E-4757-9F94-9DA8648B76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D59F9-2604-4F7F-B2BA-A57401179B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E9931-F1B4-4B7A-A6B5-AA54FF5EE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AE43D-19E9-41C3-9C61-1F1F84972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893DF-8A3E-4B89-A764-DD97CE25A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4ADCF-E21C-4453-ADB1-845176960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CF3A2-EE35-4066-9DD5-10263D128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F03F-02D6-41BE-9A9F-A4CE3F5D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72ABB-3722-4742-8079-87A6897B5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335A2-D278-451A-88AD-17710301F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4AF63-23CC-453F-B077-96F6173C1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34EC8E-277B-441F-B5DB-30E074927D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1E727-19CC-4BC9-9AB5-3F3DF14721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34BF7-E46A-44CC-A599-4C7BA0B2D1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16079-AB94-43CF-B13D-972B2C1D86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1DF5BC-A0FC-4564-990A-99E0C13859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57872B-F00E-4147-81CE-A252487CBA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0D0F10-1A54-46C5-A443-43C3EEBC9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4DB6-9D35-4775-9E71-6861B914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7976A5-4957-4EC9-AF53-302BA8805C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E58BF-B55C-42E2-9206-8C9C2EA09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CF452-8F81-4795-959D-13D25B6C0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C9E69-12DC-46BA-A994-5C8E82CC7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6B442-A1D5-4B70-A1DC-3A619602B8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D84A6C-A51A-47EC-9D9C-4D513F874B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F6C71D-1907-4E22-ADBF-ED3D6A14CB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99A615-3CF4-4CCB-9FD3-FC6EA873C3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901EB6-E7A8-44DB-A394-A54905CAE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992AD-95C4-4A3E-9215-43FD8134A0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8A94B-1380-4C4A-AF1C-7742672A18B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E9997-0483-433F-B906-95ECB688E2E4}" type="slidenum">
              <a:rPr b="0" lang="en-US" sz="1200" spc="-1" strike="noStrike">
                <a:solidFill>
                  <a:srgbClr val="898989"/>
                </a:solidFill>
                <a:latin typeface="Calibri"/>
              </a:rPr>
              <a:t>&lt;number&gt;</a:t>
            </a:fld>
            <a:fld id="{5B128B8A-5F2B-4957-B0A8-DA12CA4B81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04110-13CE-4651-9302-14532C0E4BBF}"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DDAF1-8534-4016-A553-28AF25F770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143C6-0199-4AE6-9EEE-2223337F0B2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7E5D4-D508-4984-BC85-E2EB58C333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C4DFC-C061-466F-8908-A1FF637D95F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5B20F-86E1-4D29-B1FD-6F504175E2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Picture 8" descr="MSMT_tecky_OK_RGB.ai"/>
          <p:cNvPicPr/>
          <p:nvPr/>
        </p:nvPicPr>
        <p:blipFill>
          <a:blip r:embed="rId2"/>
          <a:stretch/>
        </p:blipFill>
        <p:spPr>
          <a:xfrm>
            <a:off x="1314360" y="569880"/>
            <a:ext cx="6458040" cy="503280"/>
          </a:xfrm>
          <a:prstGeom prst="rect">
            <a:avLst/>
          </a:prstGeom>
          <a:ln w="0">
            <a:noFill/>
          </a:ln>
        </p:spPr>
      </p:pic>
      <p:pic>
        <p:nvPicPr>
          <p:cNvPr id="517" name="Picture 10" descr="MSMT_logolink_bezVlajky_RGB.ai"/>
          <p:cNvPicPr/>
          <p:nvPr/>
        </p:nvPicPr>
        <p:blipFill>
          <a:blip r:embed="rId3"/>
          <a:stretch/>
        </p:blipFill>
        <p:spPr>
          <a:xfrm>
            <a:off x="2438280" y="5624640"/>
            <a:ext cx="4267440" cy="841320"/>
          </a:xfrm>
          <a:prstGeom prst="rect">
            <a:avLst/>
          </a:prstGeom>
          <a:ln w="0">
            <a:noFill/>
          </a:ln>
        </p:spPr>
      </p:pic>
      <p:sp>
        <p:nvSpPr>
          <p:cNvPr id="5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51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9E318-F4AB-4C4B-B819-28AF7561AD6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72FF1-41CE-4B9F-B1D8-7C078253D9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7B219-3306-4C34-AD7D-6EBCBA07ADD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7CB5-70B9-42D8-A044-9C86BE277A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E6B4D-21A6-4D71-8E37-35AC997F6BC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92038-4C56-4E09-8B6C-9E1E9D4769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D6665-95F3-4974-AD2A-479DBB274CF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09A5B-DE2E-4270-8032-CDC887F911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D68FC-B75C-46DE-AB8E-EF885E835B37}"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872BB-4267-40EA-A400-7279FFBA62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88E12-257F-4DF0-A011-B17CA83A259F}"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0B99E-7633-464C-92C5-02E242BA47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0C6FA-E013-457A-93D8-93E5DEF7E14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6C73E-C27E-47DE-A42C-74AEC34199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A5044-9713-460C-9355-7ADA01219AD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DC5B4-FA0C-4CFB-9A5A-F29DF795F3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vyse-mezd-platu-v-projektech-op-vk" TargetMode="External"/><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fcr.cz/cps/rde/xchg/mfcr/xsl/cestovni_nahrady.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mpsv.cz/cs/1490" TargetMode="Externa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jpeg"/><Relationship Id="rId3" Type="http://schemas.openxmlformats.org/officeDocument/2006/relationships/image" Target="../media/image24.jpe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hyperlink" Target="http://www.msmt.cz/strukturalni-fondy/pro-zadatele" TargetMode="External"/><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hyperlink" Target="mailto:zita.nidlova@msmt.cz"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71600" y="1248840"/>
            <a:ext cx="6283440" cy="567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r>
              <a:rPr b="1" lang="cs-CZ" sz="5400" spc="-1" strike="noStrike">
                <a:solidFill>
                  <a:srgbClr val="f3912c"/>
                </a:solidFill>
                <a:latin typeface="Helvetica CE"/>
              </a:rPr>
              <a:t>Rozpočet projektu</a:t>
            </a:r>
            <a:br>
              <a:rPr sz="2800"/>
            </a:br>
            <a:br>
              <a:rPr sz="2800"/>
            </a:br>
            <a:br>
              <a:rPr sz="2800"/>
            </a:br>
            <a:br>
              <a:rPr sz="2800"/>
            </a:br>
            <a:r>
              <a:rPr b="1" lang="cs-CZ" sz="2800" spc="-1" strike="noStrike">
                <a:solidFill>
                  <a:srgbClr val="f3912c"/>
                </a:solidFill>
                <a:latin typeface="Helvetica CE"/>
              </a:rPr>
              <a:t>Mgr. Zita Nidlová</a:t>
            </a:r>
            <a:br>
              <a:rPr sz="2800"/>
            </a:br>
            <a:br>
              <a:rPr sz="2800"/>
            </a:br>
            <a:endParaRPr b="1" lang="en-US" sz="2800" spc="-1" strike="noStrike">
              <a:solidFill>
                <a:srgbClr val="000000"/>
              </a:solidFill>
              <a:latin typeface="Helvetica CE"/>
            </a:endParaRPr>
          </a:p>
        </p:txBody>
      </p:sp>
      <p:sp>
        <p:nvSpPr>
          <p:cNvPr id="56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FD1E1-6E89-4DF5-974B-757E2D8B87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705ED-20B0-4ADD-AD36-808D8134A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
          <p:cNvSpPr txBox="1"/>
          <p:nvPr/>
        </p:nvSpPr>
        <p:spPr>
          <a:xfrm>
            <a:off x="1329840" y="1928520"/>
            <a:ext cx="6458040" cy="317340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soby, které mají v rámci projektu uzavřen pracovně právní vztah (pracovní smlouva, DPP, DPČ)</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rubá mzda v místě realizace, oboru a čase obvyklá</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poručená výše mezd/platů – Metodický dopis č. 4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u="sng">
                <a:solidFill>
                  <a:srgbClr val="0000ff"/>
                </a:solidFill>
                <a:uFillTx/>
                <a:latin typeface="Helvetica CE"/>
                <a:hlinkClick r:id="rId1"/>
              </a:rPr>
              <a:t>http://www.msmt.cz/strukturalni-fondy/vyse-mezd-platu-v-projektech-op-vk</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utorské honoráře dle zák. 121/2000 Sb.</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09" name="Picture 5" descr="C:\Documents and Settings\nidlovaz\Local Settings\Temporary Internet Files\Content.IE5\OAE2DMG2\MC900216942[1].wmf"/>
          <p:cNvPicPr/>
          <p:nvPr/>
        </p:nvPicPr>
        <p:blipFill>
          <a:blip r:embed="rId2"/>
          <a:stretch/>
        </p:blipFill>
        <p:spPr>
          <a:xfrm>
            <a:off x="0" y="1152360"/>
            <a:ext cx="1557360" cy="15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CE24F-A306-4BC2-B37C-31373EE078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
          <p:cNvSpPr txBox="1"/>
          <p:nvPr/>
        </p:nvSpPr>
        <p:spPr>
          <a:xfrm>
            <a:off x="1329840" y="1928880"/>
            <a:ext cx="6458040" cy="347832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uvádějte každou jednotlivou pozici zvlášť tak, jak odpovídá plánovaným pozicím v kap. VIII projektové přihlášky.</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plánujete jednu pozici (např. metodik) obsadit více pracovníky, můžete v rozpočtu vytvořit odpovídající počet podpoložek (např. metodik 1, metodik 2…)</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slučujte více pozic</a:t>
            </a:r>
            <a:r>
              <a:rPr b="0" lang="cs-CZ" sz="1800" spc="-1" strike="noStrike">
                <a:solidFill>
                  <a:srgbClr val="000000"/>
                </a:solidFill>
                <a:latin typeface="Helvetica CE"/>
              </a:rPr>
              <a:t> dohromady</a:t>
            </a:r>
            <a:r>
              <a:rPr b="1" lang="cs-CZ" sz="1800" spc="-1" strike="noStrike">
                <a:solidFill>
                  <a:srgbClr val="ff0000"/>
                </a:solidFill>
                <a:latin typeface="Helvetica CE"/>
              </a:rPr>
              <a:t> </a:t>
            </a:r>
            <a:r>
              <a:rPr b="0" lang="cs-CZ" sz="1800" spc="-1" strike="noStrike">
                <a:solidFill>
                  <a:srgbClr val="000000"/>
                </a:solidFill>
                <a:latin typeface="Helvetica CE"/>
              </a:rPr>
              <a:t>podle typu úvazk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X Nevyčíslujte náklady obecně </a:t>
            </a:r>
            <a:r>
              <a:rPr b="0" lang="cs-CZ" sz="1800" spc="-1" strike="noStrike">
                <a:solidFill>
                  <a:srgbClr val="000000"/>
                </a:solidFill>
                <a:latin typeface="Helvetica CE"/>
              </a:rPr>
              <a:t>(např. lektor 1x 250 000 Kč), ale </a:t>
            </a:r>
            <a:r>
              <a:rPr b="1" lang="cs-CZ" sz="1800" spc="-1" strike="noStrike">
                <a:solidFill>
                  <a:srgbClr val="000000"/>
                </a:solidFill>
                <a:latin typeface="Helvetica CE"/>
              </a:rPr>
              <a:t>co nejpřesněji </a:t>
            </a:r>
            <a:r>
              <a:rPr b="0" lang="cs-CZ" sz="1800" spc="-1" strike="noStrike">
                <a:solidFill>
                  <a:srgbClr val="000000"/>
                </a:solidFill>
                <a:latin typeface="Helvetica CE"/>
              </a:rPr>
              <a:t>(lektor 1 000 hod. * 250 Kč)</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r>
              <a:rPr b="1" lang="cs-CZ" sz="1600" spc="-1" strike="noStrike">
                <a:solidFill>
                  <a:srgbClr val="000000"/>
                </a:solidFill>
                <a:latin typeface="Helvetica CE"/>
              </a:rPr>
              <a:t>Finanční manažer  0,2 * 20.000 = 4.000 Kč</a:t>
            </a:r>
            <a:br>
              <a:rPr sz="1600"/>
            </a:br>
            <a:endParaRPr b="1" lang="en-US" sz="1600" spc="-1" strike="noStrike">
              <a:solidFill>
                <a:srgbClr val="000000"/>
              </a:solidFill>
              <a:latin typeface="Helvetica CE"/>
            </a:endParaRPr>
          </a:p>
        </p:txBody>
      </p:sp>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009A3-66EB-4EB7-B101-89F39FF2E5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5" name="Picture 9" descr=""/>
          <p:cNvPicPr/>
          <p:nvPr/>
        </p:nvPicPr>
        <p:blipFill>
          <a:blip r:embed="rId1"/>
          <a:stretch/>
        </p:blipFill>
        <p:spPr>
          <a:xfrm>
            <a:off x="814320" y="1833480"/>
            <a:ext cx="7232760" cy="3819600"/>
          </a:xfrm>
          <a:prstGeom prst="rect">
            <a:avLst/>
          </a:prstGeom>
          <a:ln w="0">
            <a:noFill/>
          </a:ln>
        </p:spPr>
      </p:pic>
      <p:sp>
        <p:nvSpPr>
          <p:cNvPr id="616" name="Šipka doleva 6"/>
          <p:cNvSpPr/>
          <p:nvPr/>
        </p:nvSpPr>
        <p:spPr>
          <a:xfrm>
            <a:off x="5753160" y="42973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7" name="Šipka doprava 7"/>
          <p:cNvSpPr/>
          <p:nvPr/>
        </p:nvSpPr>
        <p:spPr>
          <a:xfrm rot="16200000">
            <a:off x="2961360" y="4736160"/>
            <a:ext cx="752400" cy="220680"/>
          </a:xfrm>
          <a:prstGeom prst="rightArrow">
            <a:avLst>
              <a:gd name="adj1" fmla="val 50000"/>
              <a:gd name="adj2" fmla="val 4999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8"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 Osobní náklady</a:t>
            </a:r>
            <a:br>
              <a:rPr sz="3200"/>
            </a:br>
            <a:endParaRPr b="1" lang="en-US" sz="3200" spc="-1" strike="noStrike">
              <a:solidFill>
                <a:srgbClr val="000000"/>
              </a:solidFill>
              <a:latin typeface="Helvetica CE"/>
            </a:endParaRPr>
          </a:p>
        </p:txBody>
      </p:sp>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468FC-C5F8-4647-ADDB-9944A900F9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1" name="Picture 9" descr=""/>
          <p:cNvPicPr/>
          <p:nvPr/>
        </p:nvPicPr>
        <p:blipFill>
          <a:blip r:embed="rId1"/>
          <a:stretch/>
        </p:blipFill>
        <p:spPr>
          <a:xfrm>
            <a:off x="1206360" y="1557360"/>
            <a:ext cx="6581880" cy="2444760"/>
          </a:xfrm>
          <a:prstGeom prst="rect">
            <a:avLst/>
          </a:prstGeom>
          <a:ln w="0">
            <a:noFill/>
          </a:ln>
        </p:spPr>
      </p:pic>
      <p:pic>
        <p:nvPicPr>
          <p:cNvPr id="622" name="Obrázek 7" descr="komentar.JPG"/>
          <p:cNvPicPr/>
          <p:nvPr/>
        </p:nvPicPr>
        <p:blipFill>
          <a:blip r:embed="rId2"/>
          <a:stretch/>
        </p:blipFill>
        <p:spPr>
          <a:xfrm>
            <a:off x="1501920" y="4002120"/>
            <a:ext cx="5956200" cy="1111320"/>
          </a:xfrm>
          <a:prstGeom prst="rect">
            <a:avLst/>
          </a:prstGeom>
          <a:ln w="0">
            <a:noFill/>
          </a:ln>
          <a:effectLst>
            <a:outerShdw dist="0" dir="0" blurRad="0" rotWithShape="0">
              <a:srgbClr val="000000">
                <a:alpha val="70000"/>
              </a:srgbClr>
            </a:outerShdw>
          </a:effectLst>
        </p:spPr>
      </p:pic>
      <p:sp>
        <p:nvSpPr>
          <p:cNvPr id="623" name="Obdélník 10"/>
          <p:cNvSpPr/>
          <p:nvPr/>
        </p:nvSpPr>
        <p:spPr>
          <a:xfrm flipV="1" rot="10800000">
            <a:off x="1646280" y="4277520"/>
            <a:ext cx="5968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Arial"/>
              </a:rPr>
              <a:t>Hodinová sazba lektora je lehce nadprůměrná, jelikož se jedná o lektora s  vysokou odborností. Z nižší sazbu by nebylo možné tohoto lektora do projektu přizvat. Jeho zapojení do projektu je klíčové. Viz blíže příloha č. 8.</a:t>
            </a:r>
            <a:endParaRPr b="0" lang="en-US" sz="1200" spc="-1" strike="noStrike">
              <a:solidFill>
                <a:srgbClr val="000000"/>
              </a:solidFill>
              <a:latin typeface="Arial"/>
            </a:endParaRPr>
          </a:p>
        </p:txBody>
      </p:sp>
      <p:sp>
        <p:nvSpPr>
          <p:cNvPr id="624" name="Šipka doleva 11"/>
          <p:cNvSpPr/>
          <p:nvPr/>
        </p:nvSpPr>
        <p:spPr>
          <a:xfrm>
            <a:off x="5634000" y="3048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5" name="Šipka doleva 12"/>
          <p:cNvSpPr/>
          <p:nvPr/>
        </p:nvSpPr>
        <p:spPr>
          <a:xfrm rot="8874600">
            <a:off x="1499400" y="3244680"/>
            <a:ext cx="800280" cy="222480"/>
          </a:xfrm>
          <a:prstGeom prst="leftArrow">
            <a:avLst>
              <a:gd name="adj1" fmla="val 50000"/>
              <a:gd name="adj2" fmla="val 49959"/>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6" name="Obdélník 13"/>
          <p:cNvSpPr/>
          <p:nvPr/>
        </p:nvSpPr>
        <p:spPr>
          <a:xfrm>
            <a:off x="1340640" y="511344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79646"/>
                </a:solidFill>
                <a:latin typeface="Helvetica CE"/>
                <a:ea typeface="Helvetica CE"/>
              </a:rPr>
              <a:t>Využívejte komentář k rozpočtu</a:t>
            </a:r>
            <a:endParaRPr b="0" lang="en-US" sz="2000" spc="-1" strike="noStrike">
              <a:solidFill>
                <a:srgbClr val="000000"/>
              </a:solidFill>
              <a:latin typeface="Arial"/>
            </a:endParaRPr>
          </a:p>
        </p:txBody>
      </p:sp>
      <p:pic>
        <p:nvPicPr>
          <p:cNvPr id="627"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EFF52-2CBF-44B8-BC05-02BDF4A00B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lav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manaže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ektor</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t>
            </a:r>
            <a:endParaRPr b="0" lang="en-US" sz="1800" spc="-1" strike="noStrike">
              <a:solidFill>
                <a:srgbClr val="000000"/>
              </a:solidFill>
              <a:latin typeface="Helvetica CE"/>
            </a:endParaRPr>
          </a:p>
        </p:txBody>
      </p:sp>
      <p:sp>
        <p:nvSpPr>
          <p:cNvPr id="631" name="Podnadpis 1"/>
          <p:cNvSpPr/>
          <p:nvPr/>
        </p:nvSpPr>
        <p:spPr>
          <a:xfrm>
            <a:off x="4635360" y="1957320"/>
            <a:ext cx="3314880" cy="30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ea typeface="Helvetica CE"/>
              </a:rPr>
              <a:t> </a:t>
            </a:r>
            <a:r>
              <a:rPr b="0" lang="cs-CZ" sz="1800" spc="-1" strike="noStrike">
                <a:solidFill>
                  <a:srgbClr val="000000"/>
                </a:solidFill>
                <a:latin typeface="Arial"/>
              </a:rPr>
              <a:t>účetní organizace</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mzdová účetní</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ersonalista</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IT</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ostraha, úkl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1 </a:t>
            </a:r>
            <a:r>
              <a:rPr b="1" lang="cs-CZ" sz="3200" spc="-1" strike="noStrike">
                <a:solidFill>
                  <a:srgbClr val="000000"/>
                </a:solidFill>
                <a:latin typeface="Helvetica CE"/>
              </a:rPr>
              <a:t>–</a:t>
            </a:r>
            <a:r>
              <a:rPr b="1" lang="cs-CZ" sz="3200" spc="-1" strike="noStrike">
                <a:solidFill>
                  <a:srgbClr val="000000"/>
                </a:solidFill>
                <a:latin typeface="Helvetica CE"/>
              </a:rPr>
              <a:t> Osobní náklady</a:t>
            </a:r>
            <a:endParaRPr b="1" lang="en-US" sz="3200" spc="-1" strike="noStrike">
              <a:solidFill>
                <a:srgbClr val="000000"/>
              </a:solidFill>
              <a:latin typeface="Helvetica CE"/>
            </a:endParaRPr>
          </a:p>
        </p:txBody>
      </p:sp>
      <p:sp>
        <p:nvSpPr>
          <p:cNvPr id="6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F09BA-5E95-4FBD-B5E8-372573B743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
          <p:cNvSpPr txBox="1"/>
          <p:nvPr/>
        </p:nvSpPr>
        <p:spPr>
          <a:xfrm>
            <a:off x="1329840" y="1956960"/>
            <a:ext cx="64580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635" name=""/>
          <p:cNvGraphicFramePr/>
          <p:nvPr/>
        </p:nvGraphicFramePr>
        <p:xfrm>
          <a:off x="1330200" y="1957320"/>
          <a:ext cx="6620040" cy="2565360"/>
        </p:xfrm>
        <a:graphic>
          <a:graphicData uri="http://schemas.openxmlformats.org/drawingml/2006/table">
            <a:tbl>
              <a:tblPr/>
              <a:tblGrid>
                <a:gridCol w="3310200"/>
                <a:gridCol w="33098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4 FKS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1.5 Jiné povinné výdaj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Mohou nárokovat pouze organizace, které jsou </a:t>
                      </a:r>
                      <a:r>
                        <a:rPr b="1" lang="cs-CZ" sz="1800" spc="-1" strike="noStrike">
                          <a:solidFill>
                            <a:srgbClr val="000000"/>
                          </a:solidFill>
                          <a:latin typeface="Calibri"/>
                        </a:rPr>
                        <a:t>ze zákona povinny</a:t>
                      </a:r>
                      <a:r>
                        <a:rPr b="0" lang="cs-CZ" sz="1800" spc="-1" strike="noStrike">
                          <a:solidFill>
                            <a:srgbClr val="000000"/>
                          </a:solidFill>
                          <a:latin typeface="Calibri"/>
                        </a:rPr>
                        <a:t> jej vytváře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sociální fond na VŠ (pokud jsou </a:t>
                      </a:r>
                      <a:r>
                        <a:rPr b="1" lang="cs-CZ" sz="1800" spc="-1" strike="noStrike">
                          <a:solidFill>
                            <a:srgbClr val="000000"/>
                          </a:solidFill>
                          <a:latin typeface="Calibri"/>
                        </a:rPr>
                        <a:t>ze zákona povinny</a:t>
                      </a:r>
                      <a:r>
                        <a:rPr b="0" lang="cs-CZ" sz="1800" spc="-1" strike="noStrike">
                          <a:solidFill>
                            <a:srgbClr val="000000"/>
                          </a:solidFill>
                          <a:latin typeface="Calibri"/>
                        </a:rPr>
                        <a:t> jej vé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zákonné pojištění zaměstnanců (úrazové a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 </a:t>
                      </a:r>
                      <a:r>
                        <a:rPr b="0" lang="cs-CZ" sz="1800" spc="-1" strike="noStrike">
                          <a:solidFill>
                            <a:srgbClr val="000000"/>
                          </a:solidFill>
                          <a:latin typeface="Calibri"/>
                        </a:rPr>
                        <a:t>náhrady za nemoc, placené zaměstnavate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37" name=""/>
          <p:cNvSpPr txBox="1"/>
          <p:nvPr/>
        </p:nvSpPr>
        <p:spPr>
          <a:xfrm>
            <a:off x="1329840" y="1947960"/>
            <a:ext cx="6458040" cy="334008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na pracovní cesty osob (</a:t>
            </a:r>
            <a:r>
              <a:rPr b="1" lang="cs-CZ" sz="1800" spc="-1" strike="noStrike">
                <a:solidFill>
                  <a:srgbClr val="000000"/>
                </a:solidFill>
                <a:latin typeface="Helvetica CE"/>
              </a:rPr>
              <a:t>pracovníků</a:t>
            </a:r>
            <a:r>
              <a:rPr b="0" lang="cs-CZ" sz="1800" spc="-1" strike="noStrike">
                <a:solidFill>
                  <a:srgbClr val="000000"/>
                </a:solidFill>
                <a:latin typeface="Helvetica CE"/>
              </a:rPr>
              <a:t> příjemce či partnera), zapojených do realizace projektu, majících v rámci projektu uzavřen pracovně právní vztah):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ízdní výdaje,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ubytování,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ravné a </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utné vedlejší výdaje (např. parkovné, poplatky spojené s pracovní cestou aj.). </a:t>
            </a:r>
            <a:endParaRPr b="0" lang="en-US" sz="1800" spc="-1" strike="noStrike">
              <a:solidFill>
                <a:srgbClr val="000000"/>
              </a:solidFill>
              <a:latin typeface="Helvetica CE"/>
            </a:endParaRPr>
          </a:p>
        </p:txBody>
      </p:sp>
      <p:sp>
        <p:nvSpPr>
          <p:cNvPr id="63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641E3-4626-4B39-83EF-62F0D3B89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9" name="Picture 7" descr="C:\Documents and Settings\nidlovaz\Local Settings\Temporary Internet Files\Content.IE5\11ELY1WW\MC900195504[1].wmf"/>
          <p:cNvPicPr/>
          <p:nvPr/>
        </p:nvPicPr>
        <p:blipFill>
          <a:blip r:embed="rId1"/>
          <a:stretch/>
        </p:blipFill>
        <p:spPr>
          <a:xfrm>
            <a:off x="-14400" y="1103400"/>
            <a:ext cx="1344600" cy="106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a:t>
            </a:r>
            <a:r>
              <a:rPr b="1" lang="cs-CZ" sz="3200" spc="-1" strike="noStrike">
                <a:solidFill>
                  <a:srgbClr val="000000"/>
                </a:solidFill>
                <a:latin typeface="Helvetica CE"/>
              </a:rPr>
              <a:t>–</a:t>
            </a:r>
            <a:r>
              <a:rPr b="1" lang="cs-CZ" sz="3200" spc="-1" strike="noStrike">
                <a:solidFill>
                  <a:srgbClr val="000000"/>
                </a:solidFill>
                <a:latin typeface="Helvetica CE"/>
              </a:rPr>
              <a:t> Cestovní náhrady</a:t>
            </a:r>
            <a:endParaRPr b="1" lang="en-US" sz="3200" spc="-1" strike="noStrike">
              <a:solidFill>
                <a:srgbClr val="000000"/>
              </a:solidFill>
              <a:latin typeface="Helvetica CE"/>
            </a:endParaRPr>
          </a:p>
        </p:txBody>
      </p:sp>
      <p:sp>
        <p:nvSpPr>
          <p:cNvPr id="641" name=""/>
          <p:cNvSpPr txBox="1"/>
          <p:nvPr/>
        </p:nvSpPr>
        <p:spPr>
          <a:xfrm>
            <a:off x="1329840" y="1947600"/>
            <a:ext cx="6458040" cy="35478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Tuzemské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e výzvě 27 pro všechny žadatele (s výjimkou žadatelů – organizačních složek státu; OSS), patří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Zahranič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Lze žádat pouze ve zvlášť zdůvodněných případech.</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li zahraniční cesta plánována a rozpočtována již při přípravě projektu, nelze v jeho průběhu vytvářet nové nebo navyšovat existující rozpočtové položk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4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69738-A7EB-4C9D-95E4-61A08DC05C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329840" y="1260000"/>
            <a:ext cx="6458040" cy="559080"/>
          </a:xfrm>
          <a:prstGeom prst="rect">
            <a:avLst/>
          </a:prstGeom>
          <a:noFill/>
          <a:ln w="0">
            <a:noFill/>
          </a:ln>
        </p:spPr>
        <p:txBody>
          <a:bodyPr anchor="ctr">
            <a:noAutofit/>
          </a:bodyPr>
          <a:p>
            <a:pPr indent="0">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cs-CZ" sz="3200" spc="-1" strike="noStrike">
                <a:solidFill>
                  <a:srgbClr val="000000"/>
                </a:solidFill>
                <a:latin typeface="Helvetica CE"/>
              </a:rPr>
              <a:t>2 – Cestovní náhrady</a:t>
            </a:r>
            <a:br>
              <a:rPr sz="3200"/>
            </a:br>
            <a:r>
              <a:rPr b="1" lang="cs-CZ" sz="2000" spc="-1" strike="noStrike">
                <a:solidFill>
                  <a:srgbClr val="000000"/>
                </a:solidFill>
                <a:latin typeface="Helvetica CE"/>
              </a:rPr>
              <a:t>Zahraniční pracovní cesty realizačního týmu:</a:t>
            </a:r>
            <a:br>
              <a:rPr sz="20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jen v řádně odůvodněných případech</a:t>
            </a:r>
            <a:br>
              <a:rPr sz="1600"/>
            </a:b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	</a:t>
            </a:r>
            <a:r>
              <a:rPr b="1" lang="cs-CZ" sz="1600" spc="-1" strike="noStrike">
                <a:solidFill>
                  <a:srgbClr val="000000"/>
                </a:solidFill>
                <a:latin typeface="Helvetica CE"/>
              </a:rPr>
              <a:t>přímá vazba na klíčové aktivity</a:t>
            </a:r>
            <a:br>
              <a:rPr sz="1600"/>
            </a:br>
            <a:r>
              <a:rPr b="1" lang="cs-CZ" sz="1600" spc="-1" strike="noStrike">
                <a:solidFill>
                  <a:srgbClr val="000000"/>
                </a:solidFill>
                <a:latin typeface="Helvetica CE"/>
              </a:rPr>
              <a:t>	</a:t>
            </a:r>
            <a:r>
              <a:rPr b="1" lang="cs-CZ" sz="1600" spc="-1" strike="noStrike">
                <a:solidFill>
                  <a:srgbClr val="000000"/>
                </a:solidFill>
                <a:latin typeface="Helvetica CE"/>
              </a:rPr>
              <a:t>-</a:t>
            </a:r>
            <a:r>
              <a:rPr b="1" lang="cs-CZ" sz="1600" spc="-1" strike="noStrike">
                <a:solidFill>
                  <a:srgbClr val="000000"/>
                </a:solidFill>
                <a:latin typeface="Helvetica CE"/>
              </a:rPr>
              <a:t>	</a:t>
            </a:r>
            <a:r>
              <a:rPr b="1" lang="cs-CZ" sz="1600" spc="-1" strike="noStrike">
                <a:solidFill>
                  <a:srgbClr val="000000"/>
                </a:solidFill>
                <a:latin typeface="Helvetica CE"/>
              </a:rPr>
              <a:t>specifikace KDO, KAM a PROČ</a:t>
            </a:r>
            <a:br>
              <a:rPr sz="1600"/>
            </a:br>
            <a:endParaRPr b="1" lang="en-US" sz="1600" spc="-1" strike="noStrike">
              <a:solidFill>
                <a:srgbClr val="000000"/>
              </a:solidFill>
              <a:latin typeface="Helvetica CE"/>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85718-57CD-45C8-9161-B7D5E2E3DA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5" name="Picture 4" descr=""/>
          <p:cNvPicPr/>
          <p:nvPr/>
        </p:nvPicPr>
        <p:blipFill>
          <a:blip r:embed="rId1"/>
          <a:stretch/>
        </p:blipFill>
        <p:spPr>
          <a:xfrm>
            <a:off x="1189080" y="2762280"/>
            <a:ext cx="6153120" cy="2689200"/>
          </a:xfrm>
          <a:prstGeom prst="rect">
            <a:avLst/>
          </a:prstGeom>
          <a:ln w="0">
            <a:noFill/>
          </a:ln>
        </p:spPr>
      </p:pic>
      <p:sp>
        <p:nvSpPr>
          <p:cNvPr id="646" name="Šipka doleva 8"/>
          <p:cNvSpPr/>
          <p:nvPr/>
        </p:nvSpPr>
        <p:spPr>
          <a:xfrm rot="19872600">
            <a:off x="6153120" y="4686120"/>
            <a:ext cx="800280" cy="222120"/>
          </a:xfrm>
          <a:prstGeom prst="leftArrow">
            <a:avLst>
              <a:gd name="adj1" fmla="val 50000"/>
              <a:gd name="adj2" fmla="val 5004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7"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29840" y="12603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9D232-1710-40F4-82B9-4763DD8B35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
          <p:cNvSpPr txBox="1"/>
          <p:nvPr/>
        </p:nvSpPr>
        <p:spPr>
          <a:xfrm>
            <a:off x="1329840" y="1917360"/>
            <a:ext cx="6458040" cy="35780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jízdenky (vlak 2. třída, autobus), letenky (nad 500 km), výdaje za použití  vozidla, MHD</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výdaje za dopravu zahraničního experta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r>
              <a:rPr b="0" lang="cs-CZ" sz="1800" spc="-1" strike="noStrike">
                <a:solidFill>
                  <a:srgbClr val="000000"/>
                </a:solidFill>
                <a:latin typeface="Helvetica CE"/>
              </a:rPr>
              <a:t>– zpravidla hotel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r>
              <a:rPr b="0" lang="cs-CZ" sz="1800" spc="-1" strike="noStrike">
                <a:solidFill>
                  <a:srgbClr val="000000"/>
                </a:solidFill>
                <a:latin typeface="Helvetica CE"/>
              </a:rPr>
              <a:t> – dle platné legislativy – vyhlášky MFČR, </a:t>
            </a:r>
            <a:r>
              <a:rPr b="0" lang="cs-CZ" sz="1600" spc="-1" strike="noStrike" u="sng">
                <a:solidFill>
                  <a:srgbClr val="0000ff"/>
                </a:solidFill>
                <a:uFillTx/>
                <a:latin typeface="Helvetica CE"/>
                <a:hlinkClick r:id="rId1"/>
              </a:rPr>
              <a:t>http://www.mfcr.cz/cps/rde/xchg/mfcr/xsl/cestovni_nahrady.html</a:t>
            </a:r>
            <a:endParaRPr b="0" lang="en-US" sz="1600" spc="-1" strike="noStrike">
              <a:solidFill>
                <a:srgbClr val="000000"/>
              </a:solidFill>
              <a:latin typeface="Helvetica CE"/>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329840" y="126000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last podpory 1.2 – výzva č. 27</a:t>
            </a:r>
            <a:endParaRPr b="1" lang="en-US" sz="3200" spc="-1" strike="noStrike">
              <a:solidFill>
                <a:srgbClr val="000000"/>
              </a:solidFill>
              <a:latin typeface="Helvetica CE"/>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6F521-7BC8-4D2A-AD1D-24326F9D3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
          <p:cNvSpPr txBox="1"/>
          <p:nvPr/>
        </p:nvSpPr>
        <p:spPr>
          <a:xfrm>
            <a:off x="1329840" y="1898640"/>
            <a:ext cx="6458040" cy="3618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inanční podpora na jeden projekt IPO:</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in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0 000 000,- Kč (pro všechny aktivity)</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imální výše: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15 000 000,- Kč (pro aktivity č. 3)</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30 000 000,- Kč (pro aktivity č. 1 a 2)</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a:t>
            </a:r>
            <a:r>
              <a:rPr b="1" lang="cs-CZ" sz="3200" spc="-1" strike="noStrike">
                <a:solidFill>
                  <a:srgbClr val="000000"/>
                </a:solidFill>
                <a:latin typeface="Helvetica CE"/>
              </a:rPr>
              <a:t>–</a:t>
            </a:r>
            <a:r>
              <a:rPr b="1" lang="cs-CZ" sz="3200" spc="-1" strike="noStrike">
                <a:solidFill>
                  <a:srgbClr val="000000"/>
                </a:solidFill>
                <a:latin typeface="Helvetica CE"/>
              </a:rPr>
              <a:t> Služební cesty zahraniční</a:t>
            </a:r>
            <a:endParaRPr b="1" lang="en-US" sz="3200" spc="-1" strike="noStrike">
              <a:solidFill>
                <a:srgbClr val="000000"/>
              </a:solidFill>
              <a:latin typeface="Helvetica CE"/>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A02C1-0756-4F07-A518-59AD7C447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
          <p:cNvSpPr txBox="1"/>
          <p:nvPr/>
        </p:nvSpPr>
        <p:spPr>
          <a:xfrm>
            <a:off x="1329840" y="1641600"/>
            <a:ext cx="6458040" cy="38541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cestovní pojištění, dálniční známka…</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 náklady na cestu do ČR a zpě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zahraniční expert v ČR, </a:t>
            </a:r>
            <a:r>
              <a:rPr b="1" lang="cs-CZ" sz="1800" spc="-1" strike="noStrike">
                <a:solidFill>
                  <a:srgbClr val="000000"/>
                </a:solidFill>
                <a:latin typeface="Helvetica CE"/>
              </a:rPr>
              <a:t>per diems: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novuje se podle sazeb EU na </a:t>
            </a:r>
            <a:endParaRPr b="0" lang="en-US" sz="1800" spc="-1" strike="noStrike">
              <a:solidFill>
                <a:srgbClr val="000000"/>
              </a:solidFill>
              <a:latin typeface="Helvetica CE"/>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u="sng">
                <a:solidFill>
                  <a:srgbClr val="0000ff"/>
                </a:solidFill>
                <a:uFillTx/>
                <a:latin typeface="Helvetica CE"/>
                <a:hlinkClick r:id="rId1"/>
              </a:rPr>
              <a:t>http://ec.europa.eu/europeaid/work/procedures/implementation/per_diems/index_en.htm </a:t>
            </a:r>
            <a:r>
              <a:rPr b="1" lang="cs-CZ" sz="1800" spc="-1" strike="noStrike">
                <a:solidFill>
                  <a:srgbClr val="000000"/>
                </a:solidFill>
                <a:latin typeface="Helvetica CE"/>
              </a:rPr>
              <a:t>a zároveň</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max. 230 €/den. </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 těchto prostředků si zahraniční expert </a:t>
            </a:r>
            <a:r>
              <a:rPr b="1" lang="cs-CZ" sz="1800" spc="-1" strike="noStrike">
                <a:solidFill>
                  <a:srgbClr val="000000"/>
                </a:solidFill>
                <a:latin typeface="Helvetica CE"/>
              </a:rPr>
              <a:t>hradí sám </a:t>
            </a:r>
            <a:r>
              <a:rPr b="0" lang="cs-CZ" sz="1800" spc="-1" strike="noStrike">
                <a:solidFill>
                  <a:srgbClr val="000000"/>
                </a:solidFill>
                <a:latin typeface="Helvetica CE"/>
              </a:rPr>
              <a:t>náklady na svůj pobyt v ČR (ubytování, stravné a cestovné v ČR).</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1. – Služební cesty zahraniční</a:t>
            </a:r>
            <a:endParaRPr b="1" lang="en-US" sz="3200" spc="-1" strike="noStrike">
              <a:solidFill>
                <a:srgbClr val="000000"/>
              </a:solidFill>
              <a:latin typeface="Helvetica CE"/>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C6E49-32E8-4582-AFD1-5A1DFCD9FB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6" name="Picture 8" descr=""/>
          <p:cNvPicPr/>
          <p:nvPr/>
        </p:nvPicPr>
        <p:blipFill>
          <a:blip r:embed="rId1"/>
          <a:stretch/>
        </p:blipFill>
        <p:spPr>
          <a:xfrm>
            <a:off x="665280" y="2600280"/>
            <a:ext cx="8478720" cy="2081160"/>
          </a:xfrm>
          <a:prstGeom prst="rect">
            <a:avLst/>
          </a:prstGeom>
          <a:ln w="0">
            <a:noFill/>
          </a:ln>
        </p:spPr>
      </p:pic>
      <p:pic>
        <p:nvPicPr>
          <p:cNvPr id="657" name="Obrázek 13" descr="Benefit-logo.JPG"/>
          <p:cNvPicPr/>
          <p:nvPr/>
        </p:nvPicPr>
        <p:blipFill>
          <a:blip r:embed="rId2"/>
          <a:srcRect l="0" t="0" r="0" b="3670"/>
          <a:stretch/>
        </p:blipFill>
        <p:spPr>
          <a:xfrm>
            <a:off x="7389720" y="0"/>
            <a:ext cx="1754280" cy="407880"/>
          </a:xfrm>
          <a:prstGeom prst="rect">
            <a:avLst/>
          </a:prstGeom>
          <a:ln w="0">
            <a:noFill/>
          </a:ln>
        </p:spPr>
      </p:pic>
      <p:sp>
        <p:nvSpPr>
          <p:cNvPr id="658" name="Šipka doleva 7"/>
          <p:cNvSpPr/>
          <p:nvPr/>
        </p:nvSpPr>
        <p:spPr>
          <a:xfrm rot="10800000">
            <a:off x="130320" y="302400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9" name="Šipka doleva 8"/>
          <p:cNvSpPr/>
          <p:nvPr/>
        </p:nvSpPr>
        <p:spPr>
          <a:xfrm rot="10800000">
            <a:off x="130320" y="324612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Šipka doleva 9"/>
          <p:cNvSpPr/>
          <p:nvPr/>
        </p:nvSpPr>
        <p:spPr>
          <a:xfrm rot="10800000">
            <a:off x="130320" y="364320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Šipka doleva 10"/>
          <p:cNvSpPr/>
          <p:nvPr/>
        </p:nvSpPr>
        <p:spPr>
          <a:xfrm rot="10800000">
            <a:off x="130320" y="398124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Šipka doleva 11"/>
          <p:cNvSpPr/>
          <p:nvPr/>
        </p:nvSpPr>
        <p:spPr>
          <a:xfrm rot="10800000">
            <a:off x="130320" y="4346280"/>
            <a:ext cx="799920" cy="222120"/>
          </a:xfrm>
          <a:prstGeom prst="leftArrow">
            <a:avLst>
              <a:gd name="adj1" fmla="val 50000"/>
              <a:gd name="adj2" fmla="val 5001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 – Cestovní náhrady – shrnutí</a:t>
            </a:r>
            <a:endParaRPr b="1" lang="en-US" sz="3200" spc="-1" strike="noStrike">
              <a:solidFill>
                <a:srgbClr val="000000"/>
              </a:solidFill>
              <a:latin typeface="Helvetica CE"/>
            </a:endParaRPr>
          </a:p>
        </p:txBody>
      </p:sp>
      <p:sp>
        <p:nvSpPr>
          <p:cNvPr id="6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1527F-4536-47BA-827A-43E530091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
          <p:cNvSpPr txBox="1"/>
          <p:nvPr/>
        </p:nvSpPr>
        <p:spPr>
          <a:xfrm>
            <a:off x="1329840" y="1868040"/>
            <a:ext cx="342108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ahraniční cestovné</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bytování a stravné</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zahraničí</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cesta a per diems </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zahraničního experta</a:t>
            </a:r>
            <a:endParaRPr b="0" lang="en-US" sz="1800" spc="-1" strike="noStrike">
              <a:solidFill>
                <a:srgbClr val="000000"/>
              </a:solidFill>
              <a:latin typeface="Helvetica CE"/>
            </a:endParaRPr>
          </a:p>
        </p:txBody>
      </p:sp>
      <p:sp>
        <p:nvSpPr>
          <p:cNvPr id="666" name="Podnadpis 1"/>
          <p:cNvSpPr/>
          <p:nvPr/>
        </p:nvSpPr>
        <p:spPr>
          <a:xfrm>
            <a:off x="4853160" y="1868400"/>
            <a:ext cx="3398760" cy="269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tuzemské cesto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ubytování a stravné</a:t>
            </a: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čního týmu v Č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329840" y="112248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a:t>
            </a:r>
            <a:endParaRPr b="1" lang="en-US" sz="3200" spc="-1" strike="noStrike">
              <a:solidFill>
                <a:srgbClr val="000000"/>
              </a:solidFill>
              <a:latin typeface="Helvetica CE"/>
            </a:endParaRPr>
          </a:p>
        </p:txBody>
      </p:sp>
      <p:sp>
        <p:nvSpPr>
          <p:cNvPr id="668" name=""/>
          <p:cNvSpPr txBox="1"/>
          <p:nvPr/>
        </p:nvSpPr>
        <p:spPr>
          <a:xfrm>
            <a:off x="1329840" y="1848960"/>
            <a:ext cx="6458040" cy="3173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je žadatel </a:t>
            </a:r>
            <a:r>
              <a:rPr b="1" lang="cs-CZ" sz="1800" spc="-1" strike="noStrike">
                <a:solidFill>
                  <a:srgbClr val="000000"/>
                </a:solidFill>
                <a:latin typeface="Helvetica CE"/>
              </a:rPr>
              <a:t>organizační složkou státu</a:t>
            </a:r>
            <a:r>
              <a:rPr b="0" lang="cs-CZ" sz="1800" spc="-1" strike="noStrike">
                <a:solidFill>
                  <a:srgbClr val="000000"/>
                </a:solidFill>
                <a:latin typeface="Helvetica CE"/>
              </a:rPr>
              <a:t> a předkládá rozpočet v režimu </a:t>
            </a:r>
            <a:r>
              <a:rPr b="1" lang="cs-CZ" sz="1800" spc="-1" strike="noStrike">
                <a:solidFill>
                  <a:srgbClr val="000000"/>
                </a:solidFill>
                <a:latin typeface="Helvetica CE"/>
              </a:rPr>
              <a:t>PŘÍMÝCH NÁKLADŮ</a:t>
            </a:r>
            <a:r>
              <a:rPr b="0" lang="cs-CZ" sz="1800" spc="-1" strike="noStrike">
                <a:solidFill>
                  <a:srgbClr val="000000"/>
                </a:solidFill>
                <a:latin typeface="Helvetica CE"/>
              </a:rPr>
              <a:t> (nepracuje          s nepřímými náklady), pak jsou služební cesty tuzemské (podkapitola 2.2) přímými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tatní typy právnických osob náleží služební cesty tuzemské do </a:t>
            </a:r>
            <a:r>
              <a:rPr b="1" lang="cs-CZ" sz="1800" spc="-1" strike="noStrike">
                <a:solidFill>
                  <a:srgbClr val="000000"/>
                </a:solidFill>
                <a:latin typeface="Helvetica CE"/>
              </a:rPr>
              <a:t>NEPŘÍMÝCH NÁKLADŮ</a:t>
            </a:r>
            <a:r>
              <a:rPr b="0" lang="cs-CZ" sz="1800" spc="-1" strike="noStrike">
                <a:solidFill>
                  <a:srgbClr val="000000"/>
                </a:solidFill>
                <a:latin typeface="Helvetica CE"/>
              </a:rPr>
              <a:t>.</a:t>
            </a:r>
            <a:endParaRPr b="0" lang="en-US" sz="1800" spc="-1" strike="noStrike">
              <a:solidFill>
                <a:srgbClr val="000000"/>
              </a:solidFill>
              <a:latin typeface="Helvetica CE"/>
            </a:endParaRPr>
          </a:p>
        </p:txBody>
      </p:sp>
      <p:sp>
        <p:nvSpPr>
          <p:cNvPr id="66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036EB-7453-42AE-B3EC-6A203C2310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0" name="Picture 6" descr="C:\Documents and Settings\nidlovaz\Local Settings\Temporary Internet Files\Content.IE5\W3RG6FCE\MC900349648[1].wmf"/>
          <p:cNvPicPr/>
          <p:nvPr/>
        </p:nvPicPr>
        <p:blipFill>
          <a:blip r:embed="rId1"/>
          <a:stretch/>
        </p:blipFill>
        <p:spPr>
          <a:xfrm>
            <a:off x="496800" y="2135160"/>
            <a:ext cx="457200" cy="179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2" name=""/>
          <p:cNvSpPr txBox="1"/>
          <p:nvPr/>
        </p:nvSpPr>
        <p:spPr>
          <a:xfrm>
            <a:off x="1329840" y="2047680"/>
            <a:ext cx="6458040" cy="34686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Cestovné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ízdenky (vlak 2. třída, autobus), výdaje za použití  vozidla, MHD</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použití soukromého automobilu nutno dodržet platné předpisy – vyhlášku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 – a interní směrnice organiza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Ubytov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 čase a místě obvyklá cena, max. 1 500 Kč/os./noc,         v Praze max. 2 000 Kč/os./noc</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ároveň nutno řídit se interními směrnicemi organizace</a:t>
            </a:r>
            <a:endParaRPr b="0" lang="en-US" sz="1800" spc="-1" strike="noStrike">
              <a:solidFill>
                <a:srgbClr val="000000"/>
              </a:solidFill>
              <a:latin typeface="Helvetica CE"/>
            </a:endParaRPr>
          </a:p>
        </p:txBody>
      </p:sp>
      <p:sp>
        <p:nvSpPr>
          <p:cNvPr id="6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23613-4451-47A8-89C0-71E6036D1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329840" y="1262160"/>
            <a:ext cx="6458040" cy="519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2.2. Služební cesty tuzemské (jen OSS) </a:t>
            </a:r>
            <a:endParaRPr b="1" lang="en-US" sz="3200" spc="-1" strike="noStrike">
              <a:solidFill>
                <a:srgbClr val="000000"/>
              </a:solidFill>
              <a:latin typeface="Helvetica CE"/>
            </a:endParaRPr>
          </a:p>
        </p:txBody>
      </p:sp>
      <p:sp>
        <p:nvSpPr>
          <p:cNvPr id="675"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trav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le zák. 262/2006 Sb. (zákoník práce) a vyhlášek MPSV  o cestovních náhradách </a:t>
            </a:r>
            <a:r>
              <a:rPr b="0" lang="cs-CZ" sz="1800" spc="-1" strike="noStrike" u="sng">
                <a:solidFill>
                  <a:srgbClr val="0000ff"/>
                </a:solidFill>
                <a:uFillTx/>
                <a:latin typeface="Helvetica CE"/>
                <a:hlinkClick r:id="rId1"/>
              </a:rPr>
              <a:t>http://www.mpsv.cz/cs/1490</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Ostatní</a:t>
            </a: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nutné vedlejší výdaje – např. parkovné, konferenční poplatky, dálniční známka…</a:t>
            </a:r>
            <a:endParaRPr b="0" lang="en-US" sz="1800" spc="-1" strike="noStrike">
              <a:solidFill>
                <a:srgbClr val="000000"/>
              </a:solidFill>
              <a:latin typeface="Helvetica CE"/>
            </a:endParaRPr>
          </a:p>
        </p:txBody>
      </p:sp>
      <p:sp>
        <p:nvSpPr>
          <p:cNvPr id="6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F1101-6781-43A4-AEA4-3225C08FD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4A04E-7DC5-48AA-B038-B35D607C2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
          <p:cNvSpPr txBox="1"/>
          <p:nvPr/>
        </p:nvSpPr>
        <p:spPr>
          <a:xfrm>
            <a:off x="1329840" y="1641240"/>
            <a:ext cx="6458040" cy="39942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1 Nehmotný majetek do 60 tis. </a:t>
            </a:r>
            <a:r>
              <a:rPr b="0" lang="cs-CZ" sz="1800" spc="-1" strike="noStrike">
                <a:solidFill>
                  <a:srgbClr val="000000"/>
                </a:solidFill>
                <a:latin typeface="Helvetica CE"/>
              </a:rPr>
              <a:t>Kč vč. DP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software, licence, studijní program…</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2 Dlouhodobý nehmotný majetek nad 60 tis. Kč</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INVESTI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apř. software, licence, autorská práva…</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6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3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C, foto, tiskárna, výukový a spotřební materiál…</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NELZE nábytek</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000" spc="-1" strike="noStrike">
                <a:solidFill>
                  <a:srgbClr val="000000"/>
                </a:solidFill>
                <a:latin typeface="Helvetica CE"/>
              </a:rPr>
              <a:t> </a:t>
            </a:r>
            <a:endParaRPr b="0" lang="en-US" sz="10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4 Použitý drobný hmotný majetek</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je-li jeho pořízení výhodnější než nákup nového (např. 4 roky staré PC z bazaru za 12 tis. asi nebude uznatelným nákladem, když lze levněji koupit nové).</a:t>
            </a:r>
            <a:endParaRPr b="0" lang="en-US" sz="1800" spc="-1" strike="noStrike">
              <a:solidFill>
                <a:srgbClr val="000000"/>
              </a:solidFill>
              <a:latin typeface="Helvetica CE"/>
            </a:endParaRPr>
          </a:p>
        </p:txBody>
      </p:sp>
      <p:pic>
        <p:nvPicPr>
          <p:cNvPr id="680" name="Picture 5" descr="C:\Documents and Settings\nidlovaz\Local Settings\Temporary Internet Files\Content.IE5\11ELY1WW\MC900432633[1].png"/>
          <p:cNvPicPr/>
          <p:nvPr/>
        </p:nvPicPr>
        <p:blipFill>
          <a:blip r:embed="rId1"/>
          <a:stretch/>
        </p:blipFill>
        <p:spPr>
          <a:xfrm>
            <a:off x="0" y="3459240"/>
            <a:ext cx="1808280" cy="180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9D107-7CED-4BEF-B5CD-3FC789426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3"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5 Nájem zařízení, operativní leasing</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zařízení, vybavení, nehmotného majetku, budov</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000000"/>
                </a:solidFill>
                <a:latin typeface="Helvetica CE"/>
              </a:rPr>
              <a:t>operativní</a:t>
            </a:r>
            <a:r>
              <a:rPr b="0" lang="cs-CZ" sz="1800" spc="-1" strike="noStrike">
                <a:solidFill>
                  <a:srgbClr val="000000"/>
                </a:solidFill>
                <a:latin typeface="Helvetica CE"/>
              </a:rPr>
              <a:t> leasing – majetek na konci vztahu </a:t>
            </a:r>
            <a:r>
              <a:rPr b="1" lang="cs-CZ" sz="1800" spc="-1" strike="noStrike">
                <a:solidFill>
                  <a:srgbClr val="000000"/>
                </a:solidFill>
                <a:latin typeface="Helvetica CE"/>
              </a:rPr>
              <a:t>NEPŘECHÁZÍ</a:t>
            </a:r>
            <a:r>
              <a:rPr b="0" lang="cs-CZ" sz="1800" spc="-1" strike="noStrike">
                <a:solidFill>
                  <a:srgbClr val="000000"/>
                </a:solidFill>
                <a:latin typeface="Helvetica CE"/>
              </a:rPr>
              <a:t> do vlastnictví příjemce</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easing vozidla pouze pro přepravu cílové skupiny – handicapovaných</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jem vozidla k jakýmkoli jiným účelům                   (vč. půjčovného při služební/zahraniční cestě)            je výdajem </a:t>
            </a:r>
            <a:r>
              <a:rPr b="1" lang="cs-CZ" sz="1800" spc="-1" strike="noStrike">
                <a:solidFill>
                  <a:srgbClr val="ff0000"/>
                </a:solidFill>
                <a:latin typeface="Helvetica CE"/>
              </a:rPr>
              <a:t>nezpůsobilým</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684" name="Picture 9" descr="C:\Documents and Settings\nidlovaz\Local Settings\Temporary Internet Files\Content.IE5\7XQYR9IF\MC900282344[1].wmf"/>
          <p:cNvPicPr/>
          <p:nvPr/>
        </p:nvPicPr>
        <p:blipFill>
          <a:blip r:embed="rId1"/>
          <a:stretch/>
        </p:blipFill>
        <p:spPr>
          <a:xfrm>
            <a:off x="128520" y="2125800"/>
            <a:ext cx="1596960" cy="1620720"/>
          </a:xfrm>
          <a:prstGeom prst="rect">
            <a:avLst/>
          </a:prstGeom>
          <a:ln w="0">
            <a:noFill/>
          </a:ln>
        </p:spPr>
      </p:pic>
      <p:pic>
        <p:nvPicPr>
          <p:cNvPr id="685" name="Picture 10" descr="C:\Program Files\Microsoft Office\MEDIA\CAGCAT10\j0216858.wmf"/>
          <p:cNvPicPr/>
          <p:nvPr/>
        </p:nvPicPr>
        <p:blipFill>
          <a:blip r:embed="rId2"/>
          <a:stretch/>
        </p:blipFill>
        <p:spPr>
          <a:xfrm>
            <a:off x="6553080" y="4643280"/>
            <a:ext cx="1827360" cy="833760"/>
          </a:xfrm>
          <a:prstGeom prst="rect">
            <a:avLst/>
          </a:prstGeom>
          <a:ln w="0">
            <a:noFill/>
          </a:ln>
        </p:spPr>
      </p:pic>
      <p:sp>
        <p:nvSpPr>
          <p:cNvPr id="686" name="Přímá spojovací čára 11"/>
          <p:cNvSpPr/>
          <p:nvPr/>
        </p:nvSpPr>
        <p:spPr>
          <a:xfrm>
            <a:off x="6937200" y="4233960"/>
            <a:ext cx="111312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Přímá spojovací čára 14"/>
          <p:cNvSpPr/>
          <p:nvPr/>
        </p:nvSpPr>
        <p:spPr>
          <a:xfrm flipH="1">
            <a:off x="6937200" y="4233960"/>
            <a:ext cx="851040" cy="1679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64C77-BE1E-47DB-8123-1EDA2954D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
          <p:cNvSpPr txBox="1"/>
          <p:nvPr/>
        </p:nvSpPr>
        <p:spPr>
          <a:xfrm>
            <a:off x="1329840" y="1819440"/>
            <a:ext cx="6458040" cy="365760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6 Daňové odpis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u majetku, který </a:t>
            </a:r>
            <a:r>
              <a:rPr b="1" lang="cs-CZ" sz="1800" spc="-1" strike="noStrike">
                <a:solidFill>
                  <a:srgbClr val="000000"/>
                </a:solidFill>
                <a:latin typeface="Helvetica CE"/>
              </a:rPr>
              <a:t>NEBYL</a:t>
            </a:r>
            <a:r>
              <a:rPr b="0" lang="cs-CZ" sz="1800" spc="-1" strike="noStrike">
                <a:solidFill>
                  <a:srgbClr val="000000"/>
                </a:solidFill>
                <a:latin typeface="Helvetica CE"/>
              </a:rPr>
              <a:t> pořízen z jakýchkoli dotačních prostředků (ani zčásti, ani kdykoli před začátkem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pisy motorových vozidel = </a:t>
            </a:r>
            <a:r>
              <a:rPr b="1" lang="cs-CZ" sz="1800" spc="-1" strike="noStrike">
                <a:solidFill>
                  <a:srgbClr val="ff0000"/>
                </a:solidFill>
                <a:latin typeface="Helvetica CE"/>
              </a:rPr>
              <a:t>nezpůsobilý výdaj</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7 Výdaje na opravy a údržbu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jen majetek pořízený ze způsobilých výdajů projektu nebo odepisovaný v rámci způsobilých výdajů projektu</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jetek, který je v projektu používán, ale </a:t>
            </a:r>
            <a:r>
              <a:rPr b="1" lang="cs-CZ" sz="1800" spc="-1" strike="noStrike">
                <a:solidFill>
                  <a:srgbClr val="000000"/>
                </a:solidFill>
                <a:latin typeface="Helvetica CE"/>
              </a:rPr>
              <a:t>není z projektu žádným způsobem financován</a:t>
            </a:r>
            <a:r>
              <a:rPr b="0" lang="cs-CZ" sz="1800" spc="-1" strike="noStrike">
                <a:solidFill>
                  <a:srgbClr val="000000"/>
                </a:solidFill>
                <a:latin typeface="Helvetica CE"/>
              </a:rPr>
              <a:t>, </a:t>
            </a:r>
            <a:r>
              <a:rPr b="1" lang="cs-CZ" sz="1800" spc="-1" strike="noStrike">
                <a:solidFill>
                  <a:srgbClr val="ff0000"/>
                </a:solidFill>
                <a:latin typeface="Helvetica CE"/>
              </a:rPr>
              <a:t>nelze</a:t>
            </a:r>
            <a:r>
              <a:rPr b="0" lang="cs-CZ" sz="1800" spc="-1" strike="noStrike">
                <a:solidFill>
                  <a:srgbClr val="000000"/>
                </a:solidFill>
                <a:latin typeface="Helvetica CE"/>
              </a:rPr>
              <a:t> z projektové dotace </a:t>
            </a:r>
            <a:r>
              <a:rPr b="1" lang="cs-CZ" sz="1800" spc="-1" strike="noStrike">
                <a:solidFill>
                  <a:srgbClr val="ff0000"/>
                </a:solidFill>
                <a:latin typeface="Helvetica CE"/>
              </a:rPr>
              <a:t>ani opravovat, ani udržovat</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AD945-648A-4DC3-8BD1-F65E5D203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3" name=""/>
          <p:cNvSpPr txBox="1"/>
          <p:nvPr/>
        </p:nvSpPr>
        <p:spPr>
          <a:xfrm>
            <a:off x="1329840" y="1798560"/>
            <a:ext cx="6458040" cy="3697200"/>
          </a:xfrm>
          <a:prstGeom prst="rect">
            <a:avLst/>
          </a:prstGeom>
          <a:noFill/>
          <a:ln w="0">
            <a:noFill/>
          </a:ln>
        </p:spPr>
        <p:txBody>
          <a:bodyPr anchor="t">
            <a:normAutofit/>
          </a:bodyPr>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 Křížové financování (KF) </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a:t>
            </a:r>
            <a:r>
              <a:rPr b="1" lang="cs-CZ" sz="1800" spc="-1" strike="noStrike">
                <a:solidFill>
                  <a:srgbClr val="ff0000"/>
                </a:solidFill>
                <a:latin typeface="Helvetica CE"/>
              </a:rPr>
              <a:t>max. 9 % </a:t>
            </a:r>
            <a:r>
              <a:rPr b="0" lang="cs-CZ" sz="1800" spc="-1" strike="noStrike">
                <a:solidFill>
                  <a:srgbClr val="000000"/>
                </a:solidFill>
                <a:latin typeface="Helvetica CE"/>
              </a:rPr>
              <a:t>celkových způsobilých výdajů projektu</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příjemce, který daňově neodepisuje</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1 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hmotný majetek nad 40 tis. Kč vč. DPH</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3.8.2 Neinvestiční část KF</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do 40 tis. Kč pro cílovou skupinu; přesný výčet viz Příručka pro žadatele/příjemc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bytek a vybavení pro realizační tým – v max. hodnotě 15 tis. Kč/1 přepočtený úvazek</a:t>
            </a:r>
            <a:endParaRPr b="0" lang="en-US" sz="1800" spc="-1" strike="noStrike">
              <a:solidFill>
                <a:srgbClr val="000000"/>
              </a:solidFill>
              <a:latin typeface="Helvetica CE"/>
            </a:endParaRPr>
          </a:p>
          <a:p>
            <a:pPr lvl="1" marL="743040" indent="-285840" algn="jus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v projektu např. 3,64 přepočteného úvazku x 15 000 Kč = nábytek pro realizační tým za max. 54 600 Kč)</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694" name="Picture 5" descr="C:\Documents and Settings\nidlovaz\Local Settings\Temporary Internet Files\Content.IE5\OAE2DMG2\MC900281598[1].wmf"/>
          <p:cNvPicPr/>
          <p:nvPr/>
        </p:nvPicPr>
        <p:blipFill>
          <a:blip r:embed="rId1"/>
          <a:stretch/>
        </p:blipFill>
        <p:spPr>
          <a:xfrm>
            <a:off x="128520" y="3801960"/>
            <a:ext cx="1562040" cy="156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489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Finanční limity a omezení</a:t>
            </a:r>
            <a:endParaRPr b="1" lang="en-US" sz="3200" spc="-1" strike="noStrike">
              <a:solidFill>
                <a:srgbClr val="000000"/>
              </a:solidFill>
              <a:latin typeface="Helvetica CE"/>
            </a:endParaRPr>
          </a:p>
        </p:txBody>
      </p:sp>
      <p:sp>
        <p:nvSpPr>
          <p:cNvPr id="5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D4A14-7456-4002-AFF4-89F0E46548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
          <p:cNvSpPr txBox="1"/>
          <p:nvPr/>
        </p:nvSpPr>
        <p:spPr>
          <a:xfrm>
            <a:off x="1329840" y="2004480"/>
            <a:ext cx="7356600" cy="35118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Křížové financování </a:t>
            </a:r>
            <a:r>
              <a:rPr b="0" lang="cs-CZ" sz="1800" spc="-1" strike="noStrike">
                <a:solidFill>
                  <a:srgbClr val="000000"/>
                </a:solidFill>
                <a:latin typeface="Helvetica CE"/>
              </a:rPr>
              <a:t>– </a:t>
            </a:r>
            <a:r>
              <a:rPr b="1" lang="cs-CZ" sz="1800" spc="-1" strike="noStrike">
                <a:solidFill>
                  <a:srgbClr val="ff0000"/>
                </a:solidFill>
                <a:latin typeface="Helvetica CE"/>
              </a:rPr>
              <a:t>max. 9% </a:t>
            </a:r>
            <a:r>
              <a:rPr b="0" lang="cs-CZ" sz="1800" spc="-1" strike="noStrike">
                <a:solidFill>
                  <a:srgbClr val="000000"/>
                </a:solidFill>
                <a:latin typeface="Helvetica CE"/>
              </a:rPr>
              <a:t>celkových způsobilých výdajů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Nepřímé náklady </a:t>
            </a:r>
            <a:r>
              <a:rPr b="0" lang="cs-CZ" sz="1800" spc="-1" strike="noStrike">
                <a:solidFill>
                  <a:srgbClr val="000000"/>
                </a:solidFill>
                <a:latin typeface="Helvetica CE"/>
              </a:rPr>
              <a:t>– v rámci výzvy budou uplatněna pravidla pro nepřímé ná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571"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329840" y="1133280"/>
            <a:ext cx="6458040" cy="5079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3 – Zařízení – shrnutí   </a:t>
            </a:r>
            <a:r>
              <a:rPr b="1" lang="cs-CZ" sz="3200" spc="-1" strike="noStrike">
                <a:solidFill>
                  <a:srgbClr val="f79646"/>
                </a:solidFill>
                <a:latin typeface="Helvetica CE"/>
              </a:rPr>
              <a:t>limit 25 %</a:t>
            </a:r>
            <a:endParaRPr b="1" lang="en-US" sz="3200" spc="-1" strike="noStrike">
              <a:solidFill>
                <a:srgbClr val="000000"/>
              </a:solidFill>
              <a:latin typeface="Helvetica CE"/>
            </a:endParaRPr>
          </a:p>
        </p:txBody>
      </p:sp>
      <p:sp>
        <p:nvSpPr>
          <p:cNvPr id="6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15336-2CB5-4622-AC5A-1EFE92F828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7" name=""/>
          <p:cNvSpPr txBox="1"/>
          <p:nvPr/>
        </p:nvSpPr>
        <p:spPr>
          <a:xfrm>
            <a:off x="1330200" y="2171520"/>
            <a:ext cx="35402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otebooky pro cílovou skupinu</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dborná literatura</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oftware</a:t>
            </a:r>
            <a:endParaRPr b="0" lang="en-US" sz="1800" spc="-1" strike="noStrike">
              <a:solidFill>
                <a:srgbClr val="000000"/>
              </a:solidFill>
              <a:latin typeface="Helvetica CE"/>
            </a:endParaRPr>
          </a:p>
        </p:txBody>
      </p:sp>
      <p:sp>
        <p:nvSpPr>
          <p:cNvPr id="698" name="Podnadpis 1"/>
          <p:cNvSpPr/>
          <p:nvPr/>
        </p:nvSpPr>
        <p:spPr>
          <a:xfrm>
            <a:off x="4870440" y="2171880"/>
            <a:ext cx="3816360" cy="39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Ne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papíry a psací potřeby</a:t>
            </a:r>
            <a:endParaRPr b="0" lang="en-US" sz="18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kancelářské potřeby pro administraci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329840" y="107316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4 – Místní kancelář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8 %</a:t>
            </a:r>
            <a:endParaRPr b="1" lang="en-US" sz="3200" spc="-1" strike="noStrike">
              <a:solidFill>
                <a:srgbClr val="000000"/>
              </a:solidFill>
              <a:latin typeface="Helvetica CE"/>
            </a:endParaRPr>
          </a:p>
        </p:txBody>
      </p:sp>
      <p:sp>
        <p:nvSpPr>
          <p:cNvPr id="700" name=""/>
          <p:cNvSpPr txBox="1"/>
          <p:nvPr/>
        </p:nvSpPr>
        <p:spPr>
          <a:xfrm>
            <a:off x="1329840" y="1739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0000"/>
                </a:solidFill>
                <a:latin typeface="Helvetica CE"/>
              </a:rPr>
              <a:t>Pokud projekt využívá metodiku nepřímých nákladů, nejsou výdaje z této kapitoly vykazovány v kapitole   č. 4 – Místní kancelář v přímých nákladech, ale jsou zahrnuty pod </a:t>
            </a:r>
            <a:r>
              <a:rPr b="1" lang="cs-CZ" sz="1800" spc="-1" strike="noStrike" u="sng">
                <a:solidFill>
                  <a:srgbClr val="ff0000"/>
                </a:solidFill>
                <a:uFillTx/>
                <a:latin typeface="Helvetica CE"/>
              </a:rPr>
              <a:t>nepřímé náklady</a:t>
            </a:r>
            <a:r>
              <a:rPr b="1" lang="cs-CZ" sz="1800" spc="-1" strike="noStrike">
                <a:solidFill>
                  <a:srgbClr val="ff0000"/>
                </a:solidFill>
                <a:latin typeface="Helvetica CE"/>
              </a:rPr>
              <a:t>. </a:t>
            </a:r>
            <a:endParaRPr b="0" lang="en-US" sz="1800" spc="-1" strike="noStrike">
              <a:solidFill>
                <a:srgbClr val="000000"/>
              </a:solidFill>
              <a:latin typeface="Helvetica CE"/>
            </a:endParaRPr>
          </a:p>
        </p:txBody>
      </p:sp>
      <p:sp>
        <p:nvSpPr>
          <p:cNvPr id="70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F7CBF-E133-42F4-B47E-BA8696254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8FC6A-BCEF-43A7-921B-6E42025BD5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4" name=""/>
          <p:cNvSpPr txBox="1"/>
          <p:nvPr/>
        </p:nvSpPr>
        <p:spPr>
          <a:xfrm>
            <a:off x="1329840" y="1819440"/>
            <a:ext cx="6458040" cy="36669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1 Publikace/školící materiály/manuály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tisk skript, tvorba publikací, učebni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áklady na výrobu, nikoli na nákup literatury!</a:t>
            </a: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2 Odborné služby/studie a výzku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eklady textů, zpracování analýz</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měny na základě smlouvy o dílo</a:t>
            </a:r>
            <a:endParaRPr b="0" lang="en-US" sz="1800" spc="-1" strike="noStrike">
              <a:solidFill>
                <a:srgbClr val="000000"/>
              </a:solidFill>
              <a:latin typeface="Helvetica CE"/>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5.3 Výdaje na konference/kurz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výdaje na </a:t>
            </a:r>
            <a:r>
              <a:rPr b="1" lang="cs-CZ" sz="1800" spc="-1" strike="noStrike">
                <a:solidFill>
                  <a:srgbClr val="000000"/>
                </a:solidFill>
                <a:latin typeface="Helvetica CE"/>
              </a:rPr>
              <a:t>uspořádání</a:t>
            </a:r>
            <a:r>
              <a:rPr b="0" lang="cs-CZ" sz="1800" spc="-1" strike="noStrike">
                <a:solidFill>
                  <a:srgbClr val="000000"/>
                </a:solidFill>
                <a:latin typeface="Helvetica CE"/>
              </a:rPr>
              <a:t> konferencí a kurzů v rámci projektu (pronájem prostor, techniky)</a:t>
            </a:r>
            <a:endParaRPr b="0" lang="en-US" sz="1800" spc="-1" strike="noStrike">
              <a:solidFill>
                <a:srgbClr val="000000"/>
              </a:solidFill>
              <a:latin typeface="Helvetica CE"/>
            </a:endParaRPr>
          </a:p>
          <a:p>
            <a:pPr lvl="1" marL="743040" indent="-28584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a:t>
            </a:r>
            <a:r>
              <a:rPr b="0" lang="cs-CZ" sz="1800" spc="-1" strike="noStrike">
                <a:solidFill>
                  <a:srgbClr val="000000"/>
                </a:solidFill>
                <a:latin typeface="Helvetica CE"/>
              </a:rPr>
              <a:t> účastnické konferenční poplatky (ty součástí cestovních náhrad)</a:t>
            </a:r>
            <a:endParaRPr b="0" lang="en-US" sz="1800" spc="-1" strike="noStrike">
              <a:solidFill>
                <a:srgbClr val="000000"/>
              </a:solidFill>
              <a:latin typeface="Helvetica CE"/>
            </a:endParaRPr>
          </a:p>
          <a:p>
            <a:pPr marL="343080" indent="-343080"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05" name="Picture 5" descr="C:\Documents and Settings\nidlovaz\Local Settings\Temporary Internet Files\Content.IE5\OAE2DMG2\MC900237411[1].wmf"/>
          <p:cNvPicPr/>
          <p:nvPr/>
        </p:nvPicPr>
        <p:blipFill>
          <a:blip r:embed="rId1"/>
          <a:stretch/>
        </p:blipFill>
        <p:spPr>
          <a:xfrm>
            <a:off x="208080" y="3027240"/>
            <a:ext cx="1431720" cy="128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33F3C-13A9-4C33-8542-5A2E329A3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
          <p:cNvSpPr txBox="1"/>
          <p:nvPr/>
        </p:nvSpPr>
        <p:spPr>
          <a:xfrm>
            <a:off x="1329840" y="1807920"/>
            <a:ext cx="6458040" cy="3638520"/>
          </a:xfrm>
          <a:prstGeom prst="rect">
            <a:avLst/>
          </a:prstGeom>
          <a:noFill/>
          <a:ln w="0">
            <a:noFill/>
          </a:ln>
        </p:spPr>
        <p:txBody>
          <a:bodyPr anchor="t">
            <a:normAutofit fontScale="92000"/>
          </a:bodyPr>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5.4 Podpora účastníků (stravné/ubytování) </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stravování = 300 Kč/os./den, tj. vč. hlavních jídel; pouze pro cílovou skupinu</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en = trvání akce min. 8 hodin (8x 60 min.). Při kratších akcích se limit alikvótně krátí</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lze využít i pro osoby, které nejsou součástí CS, ale na akci se podílejí (např. zahraniční lektor na smlouvu o dílo)</a:t>
            </a:r>
            <a:endParaRPr b="0" lang="en-US" sz="1800" spc="-1" strike="noStrike">
              <a:solidFill>
                <a:srgbClr val="000000"/>
              </a:solidFill>
              <a:latin typeface="Helvetica CE"/>
            </a:endParaRPr>
          </a:p>
          <a:p>
            <a:pPr lvl="1" marL="683280" indent="-2628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pro ubytování = 1 500 Kč/os./noc (2 000 Kč/os./noc v Praze), pouze pro cílovou skupinu</a:t>
            </a:r>
            <a:endParaRPr b="0" lang="en-US" sz="1800" spc="-1" strike="noStrike">
              <a:solidFill>
                <a:srgbClr val="000000"/>
              </a:solidFill>
              <a:latin typeface="Helvetica CE"/>
            </a:endParaRPr>
          </a:p>
          <a:p>
            <a:pPr lvl="1" marL="683280" indent="-2628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X NE </a:t>
            </a:r>
            <a:r>
              <a:rPr b="0" lang="cs-CZ" sz="1800" spc="-1" strike="noStrike">
                <a:solidFill>
                  <a:srgbClr val="000000"/>
                </a:solidFill>
                <a:latin typeface="Helvetica CE"/>
              </a:rPr>
              <a:t>náklady na pobyt realizačního týmu (cestovné, kap. 2)</a:t>
            </a: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15360" indent="-315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15360" indent="-31536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329840" y="113364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49%</a:t>
            </a:r>
            <a:endParaRPr b="1" lang="en-US" sz="3200" spc="-1" strike="noStrike">
              <a:solidFill>
                <a:srgbClr val="000000"/>
              </a:solidFill>
              <a:latin typeface="Helvetica CE"/>
            </a:endParaRPr>
          </a:p>
        </p:txBody>
      </p:sp>
      <p:sp>
        <p:nvSpPr>
          <p:cNvPr id="7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C9DBE-8E3D-4EE8-A755-DFFE53084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
          <p:cNvSpPr txBox="1"/>
          <p:nvPr/>
        </p:nvSpPr>
        <p:spPr>
          <a:xfrm>
            <a:off x="1329840" y="1807920"/>
            <a:ext cx="6458040" cy="363852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5.5 Jiné výdaje</a:t>
            </a:r>
            <a:endParaRPr b="0" lang="en-US" sz="1800" spc="-1" strike="noStrike">
              <a:solidFill>
                <a:srgbClr val="000000"/>
              </a:solidFill>
              <a:latin typeface="Helvetica CE"/>
            </a:endParaRPr>
          </a:p>
          <a:p>
            <a:pPr lvl="1" marL="743040" indent="-285840" algn="jus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statní služby související s projektem, např. právní poradenství; zajištění výběrového řízení dle zákona 137/2006 Sb. (o veřejných zakázkách); doprava pro cílovou skupinu na fakturu (pronájem autobusu) 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329840" y="1133280"/>
            <a:ext cx="735660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5 – Nákup služeb – shrnutí </a:t>
            </a:r>
            <a:r>
              <a:rPr b="1" lang="cs-CZ" sz="3200" spc="-1" strike="noStrike">
                <a:solidFill>
                  <a:srgbClr val="f79646"/>
                </a:solidFill>
                <a:latin typeface="Helvetica CE"/>
              </a:rPr>
              <a:t>limit 49 %</a:t>
            </a:r>
            <a:endParaRPr b="1" lang="en-US" sz="3200" spc="-1" strike="noStrike">
              <a:solidFill>
                <a:srgbClr val="000000"/>
              </a:solidFill>
              <a:latin typeface="Helvetica CE"/>
            </a:endParaRPr>
          </a:p>
        </p:txBody>
      </p:sp>
      <p:sp>
        <p:nvSpPr>
          <p:cNvPr id="7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FE902-8A48-4F13-9F98-DA44739982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4" name=""/>
          <p:cNvSpPr txBox="1"/>
          <p:nvPr/>
        </p:nvSpPr>
        <p:spPr>
          <a:xfrm>
            <a:off x="1330200" y="2171520"/>
            <a:ext cx="3122640" cy="3173400"/>
          </a:xfrm>
          <a:prstGeom prst="rect">
            <a:avLst/>
          </a:prstGeom>
          <a:noFill/>
          <a:ln w="0">
            <a:noFill/>
          </a:ln>
        </p:spPr>
        <p:txBody>
          <a:bodyPr anchor="t">
            <a:normAutofit/>
          </a:bodyPr>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Přímé náklady</a:t>
            </a:r>
            <a:endParaRPr b="0" lang="en-US" sz="24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vorba e‑learningového portál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nájem místností pro seminář</a:t>
            </a:r>
            <a:endParaRPr b="0" lang="en-US" sz="1800" spc="-1" strike="noStrike">
              <a:solidFill>
                <a:srgbClr val="000000"/>
              </a:solidFill>
              <a:latin typeface="Helvetica CE"/>
            </a:endParaRPr>
          </a:p>
        </p:txBody>
      </p:sp>
      <p:sp>
        <p:nvSpPr>
          <p:cNvPr id="715" name="Podnadpis 1"/>
          <p:cNvSpPr/>
          <p:nvPr/>
        </p:nvSpPr>
        <p:spPr>
          <a:xfrm>
            <a:off x="5002200" y="2171880"/>
            <a:ext cx="3816360" cy="28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lvl="1"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daňové a právní poradenství</a:t>
            </a:r>
            <a:endParaRPr b="0" lang="en-US" sz="18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ea typeface="Helvetica CE"/>
              </a:rPr>
              <a:t>náklady na realizaci výběrových řízení dle zák. 137/2006 Sb., nezbytných pro projekt (inzerce, poradenstv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329840" y="1122120"/>
            <a:ext cx="6458040" cy="539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6 – Stavební úpravy</a:t>
            </a:r>
            <a:endParaRPr b="1" lang="en-US" sz="3200" spc="-1" strike="noStrike">
              <a:solidFill>
                <a:srgbClr val="000000"/>
              </a:solidFill>
              <a:latin typeface="Helvetica CE"/>
            </a:endParaRPr>
          </a:p>
        </p:txBody>
      </p:sp>
      <p:sp>
        <p:nvSpPr>
          <p:cNvPr id="7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AE7C3-F956-498D-A648-2EB1A2CAE9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8" name=""/>
          <p:cNvSpPr txBox="1"/>
          <p:nvPr/>
        </p:nvSpPr>
        <p:spPr>
          <a:xfrm>
            <a:off x="1329840" y="1798200"/>
            <a:ext cx="6458040" cy="3737160"/>
          </a:xfrm>
          <a:prstGeom prst="rect">
            <a:avLst/>
          </a:prstGeom>
          <a:noFill/>
          <a:ln w="0">
            <a:noFill/>
          </a:ln>
        </p:spPr>
        <p:txBody>
          <a:bodyPr anchor="t">
            <a:normAutofit fontScale="98000"/>
          </a:bodyPr>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1 Drobné stavební úpravy </a:t>
            </a:r>
            <a:r>
              <a:rPr b="0" lang="cs-CZ" sz="1800" spc="-1" strike="noStrike">
                <a:solidFill>
                  <a:srgbClr val="000000"/>
                </a:solidFill>
                <a:latin typeface="Helvetica CE"/>
              </a:rPr>
              <a:t> </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do 40 tis. Kč/účetní období (součet všech položek)/1 položku majetku (obvykle budov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účel: umožnit cílové skupině účast na projektu = např. úprava pracovního místa nebo prostor pro handicapované</a:t>
            </a:r>
            <a:endParaRPr b="0" lang="en-US" sz="18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35880" indent="-3358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6.2 Stavební úpravy v rámci KF</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stavební práce nad 40 tis. Kč</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rekonstrukce nebo modernizace kvůli zpřístupnění prostor pro handicapované nebo úprava prostor </a:t>
            </a:r>
            <a:r>
              <a:rPr b="1" lang="cs-CZ" sz="1800" spc="-1" strike="noStrike">
                <a:solidFill>
                  <a:srgbClr val="000000"/>
                </a:solidFill>
                <a:latin typeface="Helvetica CE"/>
              </a:rPr>
              <a:t>pro cílovou skupinu</a:t>
            </a:r>
            <a:endParaRPr b="0" lang="en-US" sz="1800" spc="-1" strike="noStrike">
              <a:solidFill>
                <a:srgbClr val="000000"/>
              </a:solidFill>
              <a:latin typeface="Helvetica CE"/>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nemovitosti v majetku příjemce či partnera nebo v majetku zřizovatele</a:t>
            </a:r>
            <a:endParaRPr b="0" lang="en-US" sz="1800" spc="-1" strike="noStrike">
              <a:solidFill>
                <a:srgbClr val="000000"/>
              </a:solidFill>
              <a:latin typeface="Helvetica CE"/>
            </a:endParaRPr>
          </a:p>
        </p:txBody>
      </p:sp>
      <p:pic>
        <p:nvPicPr>
          <p:cNvPr id="719" name="Picture 6" descr="C:\Documents and Settings\nidlovaz\Local Settings\Temporary Internet Files\Content.IE5\W3RG6FCE\MC900229829[1].wmf"/>
          <p:cNvPicPr/>
          <p:nvPr/>
        </p:nvPicPr>
        <p:blipFill>
          <a:blip r:embed="rId1"/>
          <a:stretch/>
        </p:blipFill>
        <p:spPr>
          <a:xfrm>
            <a:off x="0" y="1798560"/>
            <a:ext cx="1776240" cy="1631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60562-852B-46E0-9D28-82C2B2989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2" name=""/>
          <p:cNvSpPr txBox="1"/>
          <p:nvPr/>
        </p:nvSpPr>
        <p:spPr>
          <a:xfrm>
            <a:off x="1329840" y="1807920"/>
            <a:ext cx="6458040" cy="37083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1 Mzdové příspěvk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skytovány </a:t>
            </a:r>
            <a:r>
              <a:rPr b="1" lang="cs-CZ" sz="1800" spc="-1" strike="noStrike">
                <a:solidFill>
                  <a:srgbClr val="000000"/>
                </a:solidFill>
                <a:latin typeface="Helvetica CE"/>
              </a:rPr>
              <a:t>zaměstnavateli</a:t>
            </a:r>
            <a:r>
              <a:rPr b="0" lang="cs-CZ" sz="1800" spc="-1" strike="noStrike">
                <a:solidFill>
                  <a:srgbClr val="000000"/>
                </a:solidFill>
                <a:latin typeface="Helvetica CE"/>
              </a:rPr>
              <a:t> jako náhrada mzdy pracovníka účastnícího se dalšího vzdělávání  (hrubá mzda vč. odvodů)</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ouze za dobu účasti na školení (nikoli cestu na a z něj)</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ax. 3násobek minimální mzdy platné v době konání akce a zároveň max. 100 % skutečně vzniklých nákladů (nelze vyplatit náhradu mzdy, která by byla vyšší než mzda skutečně vyplacená)</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7 – Přímá podpora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000000"/>
                </a:solidFill>
                <a:latin typeface="Helvetica CE"/>
              </a:rPr>
              <a:t>  </a:t>
            </a:r>
            <a:r>
              <a:rPr b="1" lang="cs-CZ" sz="3200" spc="-1" strike="noStrike">
                <a:solidFill>
                  <a:srgbClr val="f79646"/>
                </a:solidFill>
                <a:latin typeface="Helvetica CE"/>
              </a:rPr>
              <a:t>limit 20 %</a:t>
            </a:r>
            <a:endParaRPr b="1" lang="en-US" sz="3200" spc="-1" strike="noStrike">
              <a:solidFill>
                <a:srgbClr val="000000"/>
              </a:solidFill>
              <a:latin typeface="Helvetica CE"/>
            </a:endParaRPr>
          </a:p>
        </p:txBody>
      </p:sp>
      <p:sp>
        <p:nvSpPr>
          <p:cNvPr id="7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2B85E-B6EC-4FE2-90BA-3A7EB7AE0E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5" name=""/>
          <p:cNvSpPr txBox="1"/>
          <p:nvPr/>
        </p:nvSpPr>
        <p:spPr>
          <a:xfrm>
            <a:off x="1329840" y="1807920"/>
            <a:ext cx="6458040" cy="368748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2 Cestovné, ubytování a stravování </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laceno přímo zástupcům cílové skupiny (proti paragonům)</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při použití auta cílovou skupinou = výdaje do výše veřejné hromadné doprav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y na ubytování 1 500 resp. 2 000 Kč/os./noc</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limit na stravování max. 300 Kč/os./den (8 hodin)</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7.3 Doprovodné aktivity</a:t>
            </a:r>
            <a:endParaRPr b="0" lang="en-US" sz="1800" spc="-1" strike="noStrike">
              <a:solidFill>
                <a:srgbClr val="000000"/>
              </a:solidFill>
              <a:latin typeface="Helvetica CE"/>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zejména asistentské služby žákům se speciálními potřebami</a:t>
            </a:r>
            <a:endParaRPr b="0" lang="en-US" sz="1800" spc="-1" strike="noStrike">
              <a:solidFill>
                <a:srgbClr val="000000"/>
              </a:solidFill>
              <a:latin typeface="Helvetica CE"/>
            </a:endParaRPr>
          </a:p>
          <a:p>
            <a:pPr marL="343080" indent="-343080"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330200" y="1260000"/>
            <a:ext cx="687240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8 – Náklady vyplývající přímo        z Rozhodnutí</a:t>
            </a:r>
            <a:endParaRPr b="1" lang="en-US" sz="3200" spc="-1" strike="noStrike">
              <a:solidFill>
                <a:srgbClr val="000000"/>
              </a:solidFill>
              <a:latin typeface="Helvetica CE"/>
            </a:endParaRPr>
          </a:p>
        </p:txBody>
      </p:sp>
      <p:sp>
        <p:nvSpPr>
          <p:cNvPr id="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064A5-A00F-4B0B-9B62-233BD6CAC0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
          <p:cNvSpPr txBox="1"/>
          <p:nvPr/>
        </p:nvSpPr>
        <p:spPr>
          <a:xfrm>
            <a:off x="1329840" y="2185560"/>
            <a:ext cx="6458040" cy="181476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Audit projektu </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chválená finanční podpora projektu ≥ 3 mil. Kč)</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p:txBody>
      </p:sp>
      <p:pic>
        <p:nvPicPr>
          <p:cNvPr id="729" name="Picture 2" descr=""/>
          <p:cNvPicPr/>
          <p:nvPr/>
        </p:nvPicPr>
        <p:blipFill>
          <a:blip r:embed="rId1"/>
          <a:srcRect l="648" t="5400" r="1297" b="5400"/>
          <a:stretch/>
        </p:blipFill>
        <p:spPr>
          <a:xfrm>
            <a:off x="1487520" y="3040200"/>
            <a:ext cx="6715080" cy="733320"/>
          </a:xfrm>
          <a:prstGeom prst="rect">
            <a:avLst/>
          </a:prstGeom>
          <a:ln w="9360">
            <a:solidFill>
              <a:srgbClr val="7f7f7f"/>
            </a:solidFill>
            <a:miter/>
          </a:ln>
          <a:effectLst>
            <a:outerShdw dist="0" dir="0" blurRad="0" rotWithShape="0">
              <a:srgbClr val="000000">
                <a:alpha val="70000"/>
              </a:srgbClr>
            </a:outerShdw>
          </a:effectLst>
        </p:spPr>
      </p:pic>
      <p:sp>
        <p:nvSpPr>
          <p:cNvPr id="730" name="Šipka doleva 6"/>
          <p:cNvSpPr/>
          <p:nvPr/>
        </p:nvSpPr>
        <p:spPr>
          <a:xfrm rot="10800000">
            <a:off x="4570560" y="3328920"/>
            <a:ext cx="799920" cy="222480"/>
          </a:xfrm>
          <a:prstGeom prst="leftArrow">
            <a:avLst>
              <a:gd name="adj1" fmla="val 50000"/>
              <a:gd name="adj2" fmla="val 4993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1" name="Podnadpis 1"/>
          <p:cNvSpPr/>
          <p:nvPr/>
        </p:nvSpPr>
        <p:spPr>
          <a:xfrm>
            <a:off x="1330200" y="3916440"/>
            <a:ext cx="3333960" cy="317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ea typeface="Helvetica CE"/>
              </a:rPr>
              <a:t>Přímé náklady</a:t>
            </a:r>
            <a:endParaRPr b="0" lang="en-US" sz="2400" spc="-1" strike="noStrike">
              <a:solidFill>
                <a:srgbClr val="000000"/>
              </a:solidFill>
              <a:latin typeface="Arial"/>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audit</a:t>
            </a:r>
            <a:endParaRPr b="0" lang="en-US" sz="1800" spc="-1" strike="noStrike">
              <a:solidFill>
                <a:srgbClr val="000000"/>
              </a:solidFill>
              <a:latin typeface="Arial"/>
            </a:endParaRPr>
          </a:p>
        </p:txBody>
      </p:sp>
      <p:sp>
        <p:nvSpPr>
          <p:cNvPr id="732" name="Podnadpis 1"/>
          <p:cNvSpPr/>
          <p:nvPr/>
        </p:nvSpPr>
        <p:spPr>
          <a:xfrm>
            <a:off x="4870440" y="4000680"/>
            <a:ext cx="3816360" cy="471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f79646"/>
                </a:solidFill>
                <a:latin typeface="Helvetica CE"/>
              </a:rPr>
              <a:t>Nepřímé náklady</a:t>
            </a:r>
            <a:endParaRPr b="0" lang="en-US" sz="24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 </a:t>
            </a:r>
            <a:r>
              <a:rPr b="0" lang="cs-CZ" sz="1600" spc="-1" strike="noStrike">
                <a:solidFill>
                  <a:srgbClr val="000000"/>
                </a:solidFill>
                <a:latin typeface="Helvetica CE"/>
              </a:rPr>
              <a:t>	</a:t>
            </a:r>
            <a:r>
              <a:rPr b="0" lang="cs-CZ" sz="1800" spc="-1" strike="noStrike">
                <a:solidFill>
                  <a:srgbClr val="000000"/>
                </a:solidFill>
                <a:latin typeface="Arial"/>
              </a:rPr>
              <a:t>bankovní poplatky</a:t>
            </a:r>
            <a:endParaRPr b="0" lang="en-US" sz="18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ublicita projektu včetně úvodní a závěrečné konference</a:t>
            </a:r>
            <a:endParaRPr b="0" lang="en-US" sz="1800" spc="-1" strike="noStrike">
              <a:solidFill>
                <a:srgbClr val="000000"/>
              </a:solidFill>
              <a:latin typeface="Arial"/>
            </a:endParaRPr>
          </a:p>
        </p:txBody>
      </p:sp>
      <p:pic>
        <p:nvPicPr>
          <p:cNvPr id="733"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29840" y="1260360"/>
            <a:ext cx="6458040" cy="439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de zadat rozpočet v Benefitu</a:t>
            </a:r>
            <a:endParaRPr b="1" lang="en-US" sz="3200" spc="-1" strike="noStrike">
              <a:solidFill>
                <a:srgbClr val="000000"/>
              </a:solidFill>
              <a:latin typeface="Helvetica CE"/>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3A858-4BB5-482E-B33B-7C2220C95C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4" name="Zástupný symbol pro obsah 5" descr="benefit.JPG"/>
          <p:cNvPicPr/>
          <p:nvPr/>
        </p:nvPicPr>
        <p:blipFill>
          <a:blip r:embed="rId1"/>
          <a:srcRect l="0" t="0" r="21781" b="49555"/>
          <a:stretch/>
        </p:blipFill>
        <p:spPr>
          <a:xfrm>
            <a:off x="1330200" y="1849320"/>
            <a:ext cx="3156120" cy="3105360"/>
          </a:xfrm>
          <a:prstGeom prst="rect">
            <a:avLst/>
          </a:prstGeom>
          <a:ln w="9360">
            <a:solidFill>
              <a:srgbClr val="f79646"/>
            </a:solidFill>
            <a:miter/>
          </a:ln>
          <a:effectLst>
            <a:outerShdw dist="0" dir="0" blurRad="0" rotWithShape="0">
              <a:srgbClr val="000000">
                <a:alpha val="70000"/>
              </a:srgbClr>
            </a:outerShdw>
          </a:effectLst>
        </p:spPr>
      </p:pic>
      <p:pic>
        <p:nvPicPr>
          <p:cNvPr id="575" name="Obrázek 6" descr="benefit.JPG"/>
          <p:cNvPicPr/>
          <p:nvPr/>
        </p:nvPicPr>
        <p:blipFill>
          <a:blip r:embed="rId2"/>
          <a:srcRect l="0" t="50395" r="23062" b="0"/>
          <a:stretch/>
        </p:blipFill>
        <p:spPr>
          <a:xfrm>
            <a:off x="4270320" y="2255760"/>
            <a:ext cx="3143160" cy="3092400"/>
          </a:xfrm>
          <a:prstGeom prst="rect">
            <a:avLst/>
          </a:prstGeom>
          <a:ln w="9360">
            <a:solidFill>
              <a:srgbClr val="e46c0a"/>
            </a:solidFill>
            <a:miter/>
          </a:ln>
          <a:effectLst>
            <a:outerShdw dist="0" dir="0" blurRad="0" rotWithShape="0">
              <a:srgbClr val="000000">
                <a:alpha val="70000"/>
              </a:srgbClr>
            </a:outerShdw>
          </a:effectLst>
        </p:spPr>
      </p:pic>
      <p:sp>
        <p:nvSpPr>
          <p:cNvPr id="576" name="Šipka doleva 7"/>
          <p:cNvSpPr/>
          <p:nvPr/>
        </p:nvSpPr>
        <p:spPr>
          <a:xfrm rot="10800000">
            <a:off x="604440" y="469116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7" name="Šipka doleva 8"/>
          <p:cNvSpPr/>
          <p:nvPr/>
        </p:nvSpPr>
        <p:spPr>
          <a:xfrm rot="10800000">
            <a:off x="3906720" y="283536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Šipka doleva 9"/>
          <p:cNvSpPr/>
          <p:nvPr/>
        </p:nvSpPr>
        <p:spPr>
          <a:xfrm rot="10800000">
            <a:off x="3906720" y="336240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Šipka doleva 10"/>
          <p:cNvSpPr/>
          <p:nvPr/>
        </p:nvSpPr>
        <p:spPr>
          <a:xfrm rot="10800000">
            <a:off x="3906720" y="30988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0" name="Obrázek 10" descr="Benefit-logo.JPG"/>
          <p:cNvPicPr/>
          <p:nvPr/>
        </p:nvPicPr>
        <p:blipFill>
          <a:blip r:embed="rId3"/>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329840" y="1133280"/>
            <a:ext cx="6458040" cy="547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sp>
        <p:nvSpPr>
          <p:cNvPr id="7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BE3FE-4EE5-4CE3-A095-98927E748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6" name=""/>
          <p:cNvSpPr txBox="1"/>
          <p:nvPr/>
        </p:nvSpPr>
        <p:spPr>
          <a:xfrm>
            <a:off x="1329840" y="1917720"/>
            <a:ext cx="6458040" cy="16747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íl nepřímých nákladů se stanoví jako </a:t>
            </a:r>
            <a:r>
              <a:rPr b="1" lang="cs-CZ" sz="1800" spc="-1" strike="noStrike">
                <a:solidFill>
                  <a:srgbClr val="000000"/>
                </a:solidFill>
                <a:latin typeface="Helvetica CE"/>
              </a:rPr>
              <a:t>procento</a:t>
            </a:r>
            <a:r>
              <a:rPr b="0" lang="cs-CZ" sz="1800" spc="-1" strike="noStrike">
                <a:solidFill>
                  <a:srgbClr val="000000"/>
                </a:solidFill>
                <a:latin typeface="Helvetica CE"/>
              </a:rPr>
              <a:t> dané výzvou </a:t>
            </a:r>
            <a:r>
              <a:rPr b="1" lang="cs-CZ" sz="1800" spc="-1" strike="noStrike">
                <a:solidFill>
                  <a:srgbClr val="000000"/>
                </a:solidFill>
                <a:latin typeface="Helvetica CE"/>
              </a:rPr>
              <a:t>z přímých způsobilých výdajů celkem bez </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   </a:t>
            </a:r>
            <a:r>
              <a:rPr b="1" lang="cs-CZ" sz="1800" spc="-1" strike="noStrike">
                <a:solidFill>
                  <a:srgbClr val="000000"/>
                </a:solidFill>
                <a:latin typeface="Helvetica CE"/>
              </a:rPr>
              <a:t>	</a:t>
            </a:r>
            <a:r>
              <a:rPr b="1" lang="cs-CZ" sz="1800" spc="-1" strike="noStrike">
                <a:solidFill>
                  <a:srgbClr val="000000"/>
                </a:solidFill>
                <a:latin typeface="Helvetica CE"/>
              </a:rPr>
              <a:t>křížového financování </a:t>
            </a:r>
            <a:r>
              <a:rPr b="0" lang="cs-CZ" sz="1800" spc="-1" strike="noStrike">
                <a:solidFill>
                  <a:srgbClr val="000000"/>
                </a:solidFill>
                <a:latin typeface="Helvetica CE"/>
              </a:rPr>
              <a:t>– položka rozpočtu 9.1.</a:t>
            </a:r>
            <a:endParaRPr b="0" lang="en-US" sz="1800" spc="-1" strike="noStrike">
              <a:solidFill>
                <a:srgbClr val="000000"/>
              </a:solidFill>
              <a:latin typeface="Helvetica CE"/>
            </a:endParaRPr>
          </a:p>
          <a:p>
            <a:pPr marL="343080" indent="-34308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epřímé náklady není třeba prokazovat účetními doklad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graphicFrame>
        <p:nvGraphicFramePr>
          <p:cNvPr id="737" name=""/>
          <p:cNvGraphicFramePr/>
          <p:nvPr/>
        </p:nvGraphicFramePr>
        <p:xfrm>
          <a:off x="1330200" y="3592440"/>
          <a:ext cx="7356600" cy="1752840"/>
        </p:xfrm>
        <a:graphic>
          <a:graphicData uri="http://schemas.openxmlformats.org/drawingml/2006/table">
            <a:tbl>
              <a:tblPr/>
              <a:tblGrid>
                <a:gridCol w="5108760"/>
                <a:gridCol w="224784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Objem přímých nákladů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bez nákladů, jež spadají do křížového financová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 nepřímých nákladů</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fffff"/>
                          </a:solidFill>
                          <a:latin typeface="Calibri"/>
                        </a:rPr>
                        <a:t>(výzva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 10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0 mil. Kč ≤ 15 mil. K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Přímé náklady &gt; 15 mil. Kč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 – příklady</a:t>
            </a:r>
            <a:endParaRPr b="1" lang="en-US" sz="3200" spc="-1" strike="noStrike">
              <a:solidFill>
                <a:srgbClr val="000000"/>
              </a:solidFill>
              <a:latin typeface="Helvetica CE"/>
            </a:endParaRPr>
          </a:p>
        </p:txBody>
      </p:sp>
      <p:sp>
        <p:nvSpPr>
          <p:cNvPr id="7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B996B-816A-4E6D-94F5-4B9FF11FA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
          <p:cNvSpPr txBox="1"/>
          <p:nvPr/>
        </p:nvSpPr>
        <p:spPr>
          <a:xfrm>
            <a:off x="1329840" y="1828440"/>
            <a:ext cx="6458040" cy="3678120"/>
          </a:xfrm>
          <a:prstGeom prst="rect">
            <a:avLst/>
          </a:prstGeom>
          <a:noFill/>
          <a:ln w="0">
            <a:noFill/>
          </a:ln>
        </p:spPr>
        <p:txBody>
          <a:bodyPr anchor="t">
            <a:normAutofit/>
          </a:bodyPr>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isk a kopírování, nájem kanceláře a nákup kancelářského materiálu pro administraci projek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edení účetnictví, personalistika</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nákup vody, paliv a energie</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telefonní poplatky, poštovné, balné</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platky za vedení projektového účt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ráva počítačových sítí a internetových stránek</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řízení zásob či materiálu pro občerstve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j.</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Obrázek 14" descr="celkove.JPG"/>
          <p:cNvPicPr/>
          <p:nvPr/>
        </p:nvPicPr>
        <p:blipFill>
          <a:blip r:embed="rId1"/>
          <a:srcRect l="575" t="0" r="0" b="69877"/>
          <a:stretch/>
        </p:blipFill>
        <p:spPr>
          <a:xfrm>
            <a:off x="1353960" y="2403360"/>
            <a:ext cx="6107400" cy="866880"/>
          </a:xfrm>
          <a:prstGeom prst="rect">
            <a:avLst/>
          </a:prstGeom>
          <a:ln w="0">
            <a:noFill/>
          </a:ln>
          <a:effectLst>
            <a:outerShdw dist="0" dir="0" blurRad="0" rotWithShape="0">
              <a:srgbClr val="000000">
                <a:alpha val="70000"/>
              </a:srgbClr>
            </a:outerShdw>
          </a:effectLst>
        </p:spPr>
      </p:pic>
      <p:sp>
        <p:nvSpPr>
          <p:cNvPr id="742" name="PlaceHolder 1"/>
          <p:cNvSpPr>
            <a:spLocks noGrp="1"/>
          </p:cNvSpPr>
          <p:nvPr>
            <p:ph type="title"/>
          </p:nvPr>
        </p:nvSpPr>
        <p:spPr>
          <a:xfrm>
            <a:off x="1353960" y="1073160"/>
            <a:ext cx="6369120" cy="666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přímé náklady</a:t>
            </a:r>
            <a:endParaRPr b="1" lang="en-US" sz="3200" spc="-1" strike="noStrike">
              <a:solidFill>
                <a:srgbClr val="000000"/>
              </a:solidFill>
              <a:latin typeface="Helvetica CE"/>
            </a:endParaRPr>
          </a:p>
        </p:txBody>
      </p:sp>
      <p:pic>
        <p:nvPicPr>
          <p:cNvPr id="743" name="Obrázek 3" descr="Benefit-logo.JPG"/>
          <p:cNvPicPr/>
          <p:nvPr/>
        </p:nvPicPr>
        <p:blipFill>
          <a:blip r:embed="rId2"/>
          <a:srcRect l="0" t="0" r="0" b="3670"/>
          <a:stretch/>
        </p:blipFill>
        <p:spPr>
          <a:xfrm>
            <a:off x="7389720" y="0"/>
            <a:ext cx="1754280" cy="407880"/>
          </a:xfrm>
          <a:prstGeom prst="rect">
            <a:avLst/>
          </a:prstGeom>
          <a:ln w="0">
            <a:noFill/>
          </a:ln>
        </p:spPr>
      </p:pic>
      <p:pic>
        <p:nvPicPr>
          <p:cNvPr id="744" name="Obrázek 15" descr="nn_benefit.JPG"/>
          <p:cNvPicPr/>
          <p:nvPr/>
        </p:nvPicPr>
        <p:blipFill>
          <a:blip r:embed="rId3"/>
          <a:stretch/>
        </p:blipFill>
        <p:spPr>
          <a:xfrm>
            <a:off x="1871640" y="3814920"/>
            <a:ext cx="4767120" cy="1590480"/>
          </a:xfrm>
          <a:prstGeom prst="rect">
            <a:avLst/>
          </a:prstGeom>
          <a:ln w="0">
            <a:noFill/>
          </a:ln>
          <a:effectLst>
            <a:outerShdw dist="0" dir="0" blurRad="0" rotWithShape="0">
              <a:srgbClr val="000000">
                <a:alpha val="70000"/>
              </a:srgbClr>
            </a:outerShdw>
          </a:effectLst>
        </p:spPr>
      </p:pic>
      <p:sp>
        <p:nvSpPr>
          <p:cNvPr id="745" name="TextovéPole 19"/>
          <p:cNvSpPr/>
          <p:nvPr/>
        </p:nvSpPr>
        <p:spPr>
          <a:xfrm>
            <a:off x="3794040" y="418788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14 %</a:t>
            </a:r>
            <a:endParaRPr b="0" lang="en-US" sz="1100" spc="-1" strike="noStrike">
              <a:solidFill>
                <a:srgbClr val="000000"/>
              </a:solidFill>
              <a:latin typeface="Arial"/>
            </a:endParaRPr>
          </a:p>
        </p:txBody>
      </p:sp>
      <p:sp>
        <p:nvSpPr>
          <p:cNvPr id="746" name="TextovéPole 20"/>
          <p:cNvSpPr/>
          <p:nvPr/>
        </p:nvSpPr>
        <p:spPr>
          <a:xfrm>
            <a:off x="4535640" y="4187880"/>
            <a:ext cx="142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977 566,80</a:t>
            </a:r>
            <a:endParaRPr b="0" lang="en-US" sz="1100" spc="-1" strike="noStrike">
              <a:solidFill>
                <a:srgbClr val="000000"/>
              </a:solidFill>
              <a:latin typeface="Arial"/>
            </a:endParaRPr>
          </a:p>
        </p:txBody>
      </p:sp>
      <p:sp>
        <p:nvSpPr>
          <p:cNvPr id="747" name="Šipka doprava 16"/>
          <p:cNvSpPr/>
          <p:nvPr/>
        </p:nvSpPr>
        <p:spPr>
          <a:xfrm>
            <a:off x="4775040" y="2560680"/>
            <a:ext cx="978120" cy="222120"/>
          </a:xfrm>
          <a:prstGeom prst="rightArrow">
            <a:avLst>
              <a:gd name="adj1" fmla="val 50000"/>
              <a:gd name="adj2" fmla="val 500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8" name="Šipka doprava 17"/>
          <p:cNvSpPr/>
          <p:nvPr/>
        </p:nvSpPr>
        <p:spPr>
          <a:xfrm>
            <a:off x="2327400" y="5183280"/>
            <a:ext cx="977760" cy="222120"/>
          </a:xfrm>
          <a:prstGeom prst="rightArrow">
            <a:avLst>
              <a:gd name="adj1" fmla="val 50000"/>
              <a:gd name="adj2" fmla="val 50031"/>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TextovéPole 24"/>
          <p:cNvSpPr/>
          <p:nvPr/>
        </p:nvSpPr>
        <p:spPr>
          <a:xfrm>
            <a:off x="5513400" y="4800600"/>
            <a:ext cx="128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Arial"/>
              </a:rPr>
              <a:t>          </a:t>
            </a:r>
            <a:r>
              <a:rPr b="0" lang="cs-CZ" sz="1100" spc="-1" strike="noStrike">
                <a:solidFill>
                  <a:srgbClr val="000000"/>
                </a:solidFill>
                <a:latin typeface="Arial"/>
              </a:rPr>
              <a:t>14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746"/>
                                        </p:tgtEl>
                                        <p:attrNameLst>
                                          <p:attrName>style.visibility</p:attrName>
                                        </p:attrNameLst>
                                      </p:cBhvr>
                                      <p:to>
                                        <p:strVal val="visible"/>
                                      </p:to>
                                    </p:set>
                                    <p:animEffect filter="wipe(left)" transition="in">
                                      <p:cBhvr additive="repl">
                                        <p:cTn id="7" dur="500"/>
                                        <p:tgtEl>
                                          <p:spTgt spid="746"/>
                                        </p:tgtEl>
                                      </p:cBhvr>
                                    </p:animEffect>
                                  </p:childTnLst>
                                </p:cTn>
                              </p:par>
                            </p:childTnLst>
                          </p:cTn>
                        </p:par>
                        <p:par>
                          <p:cTn id="8" fill="hold">
                            <p:stCondLst>
                              <p:cond delay="2500"/>
                            </p:stCondLst>
                            <p:childTnLst>
                              <p:par>
                                <p:cTn id="9" nodeType="afterEffect" fill="hold" presetClass="entr" presetID="22" presetSubtype="8">
                                  <p:stCondLst>
                                    <p:cond delay="0"/>
                                  </p:stCondLst>
                                  <p:childTnLst>
                                    <p:set>
                                      <p:cBhvr>
                                        <p:cTn id="10" dur="1" fill="hold">
                                          <p:stCondLst>
                                            <p:cond delay="0"/>
                                          </p:stCondLst>
                                        </p:cTn>
                                        <p:tgtEl>
                                          <p:spTgt spid="745"/>
                                        </p:tgtEl>
                                        <p:attrNameLst>
                                          <p:attrName>style.visibility</p:attrName>
                                        </p:attrNameLst>
                                      </p:cBhvr>
                                      <p:to>
                                        <p:strVal val="visible"/>
                                      </p:to>
                                    </p:set>
                                    <p:animEffect filter="wipe(left)" transition="in">
                                      <p:cBhvr additive="repl">
                                        <p:cTn id="11" dur="500"/>
                                        <p:tgtEl>
                                          <p:spTgt spid="745"/>
                                        </p:tgtEl>
                                      </p:cBhvr>
                                    </p:animEffect>
                                  </p:childTnLst>
                                </p:cTn>
                              </p:par>
                            </p:childTnLst>
                          </p:cTn>
                        </p:par>
                        <p:par>
                          <p:cTn id="12" fill="hold">
                            <p:stCondLst>
                              <p:cond delay="3000"/>
                            </p:stCondLst>
                            <p:childTnLst>
                              <p:par>
                                <p:cTn id="13" nodeType="afterEffect" fill="hold" presetClass="entr" presetID="22" presetSubtype="8">
                                  <p:stCondLst>
                                    <p:cond delay="0"/>
                                  </p:stCondLst>
                                  <p:childTnLst>
                                    <p:set>
                                      <p:cBhvr>
                                        <p:cTn id="14" dur="1" fill="hold">
                                          <p:stCondLst>
                                            <p:cond delay="0"/>
                                          </p:stCondLst>
                                        </p:cTn>
                                        <p:tgtEl>
                                          <p:spTgt spid="749"/>
                                        </p:tgtEl>
                                        <p:attrNameLst>
                                          <p:attrName>style.visibility</p:attrName>
                                        </p:attrNameLst>
                                      </p:cBhvr>
                                      <p:to>
                                        <p:strVal val="visible"/>
                                      </p:to>
                                    </p:set>
                                    <p:animEffect filter="wipe(left)" transition="in">
                                      <p:cBhvr additive="repl">
                                        <p:cTn id="1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aň z přidané hodnoty</a:t>
            </a:r>
            <a:endParaRPr b="1" lang="en-US" sz="3200" spc="-1" strike="noStrike">
              <a:solidFill>
                <a:srgbClr val="000000"/>
              </a:solidFill>
              <a:latin typeface="Helvetica CE"/>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F6F96-3DBA-4D49-918B-71AE1870C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2" name=""/>
          <p:cNvSpPr txBox="1"/>
          <p:nvPr/>
        </p:nvSpPr>
        <p:spPr>
          <a:xfrm>
            <a:off x="1329840" y="1788840"/>
            <a:ext cx="6458040" cy="35082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Plátce DPH</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DPH je způsobilým výdajem, pokud je příjemce osvobozen od daně ve vazbě k aktivitám projektu</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PH není způsobilým výdajem, jestliže má příjemce nárok na odpočet na vstupu i ve vazbě k aktivitám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f79646"/>
                </a:solidFill>
                <a:latin typeface="Helvetica CE"/>
              </a:rPr>
              <a:t>Neplátce DP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osoby neregistrované k DPH je daň z přidané hodnoty způsobilým výdajem    </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3" name="Picture 5" descr="C:\Documents and Settings\nidlovaz\Local Settings\Temporary Internet Files\Content.IE5\W3RG6FCE\MC900196570[1].wmf"/>
          <p:cNvPicPr/>
          <p:nvPr/>
        </p:nvPicPr>
        <p:blipFill>
          <a:blip r:embed="rId1"/>
          <a:stretch/>
        </p:blipFill>
        <p:spPr>
          <a:xfrm>
            <a:off x="0" y="1789200"/>
            <a:ext cx="1351080" cy="1520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329840" y="1133280"/>
            <a:ext cx="6458040" cy="517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způsobilé výdaje</a:t>
            </a:r>
            <a:endParaRPr b="1" lang="en-US" sz="3200" spc="-1" strike="noStrike">
              <a:solidFill>
                <a:srgbClr val="000000"/>
              </a:solidFill>
              <a:latin typeface="Helvetica CE"/>
            </a:endParaRPr>
          </a:p>
        </p:txBody>
      </p:sp>
      <p:sp>
        <p:nvSpPr>
          <p:cNvPr id="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68E01-1062-4271-98CC-B5349B1E8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6" name=""/>
          <p:cNvSpPr txBox="1"/>
          <p:nvPr/>
        </p:nvSpPr>
        <p:spPr>
          <a:xfrm>
            <a:off x="1329840" y="1868400"/>
            <a:ext cx="6458040" cy="360864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jsou vynaloženy v souladu s cíli projektu.</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daje, které nelze hradit z veřejných prostředků OPVK.</a:t>
            </a: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Příklady</a:t>
            </a:r>
            <a:r>
              <a:rPr b="0" lang="cs-CZ" sz="1800" spc="-1" strike="noStrike">
                <a:solidFill>
                  <a:srgbClr val="000000"/>
                </a:solidFill>
                <a:latin typeface="Helvetica CE"/>
              </a:rPr>
              <a:t> nezpůsobilých výdajů:</a:t>
            </a:r>
            <a:endParaRPr b="0" lang="en-US" sz="1800" spc="-1" strike="noStrike">
              <a:solidFill>
                <a:srgbClr val="000000"/>
              </a:solidFill>
              <a:latin typeface="Helvetica CE"/>
            </a:endParaRPr>
          </a:p>
          <a:p>
            <a:pPr marL="343080" indent="-343080">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kurzové ztráty, stipendia, splátky </a:t>
            </a:r>
            <a:r>
              <a:rPr b="1" lang="cs-CZ" sz="1800" spc="-1" strike="noStrike">
                <a:solidFill>
                  <a:srgbClr val="000000"/>
                </a:solidFill>
                <a:latin typeface="Helvetica CE"/>
              </a:rPr>
              <a:t>finančního</a:t>
            </a:r>
            <a:r>
              <a:rPr b="0" lang="cs-CZ" sz="1800" spc="-1" strike="noStrike">
                <a:solidFill>
                  <a:srgbClr val="000000"/>
                </a:solidFill>
                <a:latin typeface="Helvetica CE"/>
              </a:rPr>
              <a:t> leasingu, vedení běžného provozního účtu, peněžitá pomoc             v mateřství, mzdy zaměstnanců nepodílejících se na realizaci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pic>
        <p:nvPicPr>
          <p:cNvPr id="757" name="Picture 5" descr="C:\Documents and Settings\nidlovaz\Local Settings\Temporary Internet Files\Content.IE5\OAE2DMG2\MC900411266[1].wmf"/>
          <p:cNvPicPr/>
          <p:nvPr/>
        </p:nvPicPr>
        <p:blipFill>
          <a:blip r:embed="rId1"/>
          <a:stretch/>
        </p:blipFill>
        <p:spPr>
          <a:xfrm>
            <a:off x="0" y="1814400"/>
            <a:ext cx="1444680" cy="136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329840" y="1122480"/>
            <a:ext cx="6458040" cy="536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řehled financování</a:t>
            </a:r>
            <a:endParaRPr b="1" lang="en-US" sz="3200" spc="-1" strike="noStrike">
              <a:solidFill>
                <a:srgbClr val="000000"/>
              </a:solidFill>
              <a:latin typeface="Helvetica CE"/>
            </a:endParaRPr>
          </a:p>
        </p:txBody>
      </p:sp>
      <p:sp>
        <p:nvSpPr>
          <p:cNvPr id="7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B945D-7E20-4D1C-86CB-5F511B77B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Obrázek 4" descr="prehled financovani.JPG"/>
          <p:cNvPicPr/>
          <p:nvPr/>
        </p:nvPicPr>
        <p:blipFill>
          <a:blip r:embed="rId1"/>
          <a:stretch/>
        </p:blipFill>
        <p:spPr>
          <a:xfrm>
            <a:off x="1330200" y="1797120"/>
            <a:ext cx="5222880" cy="3722760"/>
          </a:xfrm>
          <a:prstGeom prst="rect">
            <a:avLst/>
          </a:prstGeom>
          <a:ln w="0">
            <a:noFill/>
          </a:ln>
        </p:spPr>
      </p:pic>
      <p:sp>
        <p:nvSpPr>
          <p:cNvPr id="761" name="Šipka doprava 6"/>
          <p:cNvSpPr/>
          <p:nvPr/>
        </p:nvSpPr>
        <p:spPr>
          <a:xfrm rot="10800000">
            <a:off x="5792760" y="2898720"/>
            <a:ext cx="977760" cy="222480"/>
          </a:xfrm>
          <a:prstGeom prst="rightArrow">
            <a:avLst>
              <a:gd name="adj1" fmla="val 50000"/>
              <a:gd name="adj2" fmla="val 4995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2" name="Obrázek 3"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329840" y="1122480"/>
            <a:ext cx="6458040" cy="528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věrem</a:t>
            </a:r>
            <a:endParaRPr b="1" lang="en-US" sz="3200" spc="-1" strike="noStrike">
              <a:solidFill>
                <a:srgbClr val="000000"/>
              </a:solidFill>
              <a:latin typeface="Helvetica CE"/>
            </a:endParaRPr>
          </a:p>
        </p:txBody>
      </p:sp>
      <p:sp>
        <p:nvSpPr>
          <p:cNvPr id="7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8A3E3-8101-4DBE-B5A7-A356796D6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5" name=""/>
          <p:cNvSpPr txBox="1"/>
          <p:nvPr/>
        </p:nvSpPr>
        <p:spPr>
          <a:xfrm>
            <a:off x="1329840" y="1848960"/>
            <a:ext cx="6458040" cy="317340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 tvorbě rozpočtu vycházejte z pokynů v platné Příručce pro žadatele, verze č. 6.</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ěnujte pozornost aktuálním informacím k výzvám na  </a:t>
            </a:r>
            <a:r>
              <a:rPr b="0" lang="cs-CZ" sz="1800" spc="-1" strike="noStrike" u="sng">
                <a:solidFill>
                  <a:srgbClr val="0000ff"/>
                </a:solidFill>
                <a:uFillTx/>
                <a:latin typeface="Helvetica CE"/>
                <a:hlinkClick r:id="rId1"/>
              </a:rPr>
              <a:t>http://www.msmt.cz/strukturalni-fondy/pro-zadatele</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ěnujte rozpočtu </a:t>
            </a:r>
            <a:r>
              <a:rPr b="1" lang="cs-CZ" sz="1800" spc="-1" strike="noStrike">
                <a:solidFill>
                  <a:srgbClr val="000000"/>
                </a:solidFill>
                <a:latin typeface="Helvetica CE"/>
              </a:rPr>
              <a:t>dostatek času!</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uďte konkrétní.</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yužívejte komentář k rozpočtu či samostatné přílohy.</a:t>
            </a:r>
            <a:endParaRPr b="0" lang="en-US" sz="1800" spc="-1" strike="noStrike">
              <a:solidFill>
                <a:srgbClr val="000000"/>
              </a:solidFill>
              <a:latin typeface="Helvetica CE"/>
            </a:endParaRPr>
          </a:p>
          <a:p>
            <a:pPr marL="343080" indent="-343080">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 případě nejasností Vám rádi poradím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89F88-4093-4C08-B164-AE8CAD213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7" name="Obdélník 5"/>
          <p:cNvSpPr/>
          <p:nvPr/>
        </p:nvSpPr>
        <p:spPr>
          <a:xfrm>
            <a:off x="1116000" y="2136600"/>
            <a:ext cx="70311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600" spc="-1" strike="noStrike">
                <a:solidFill>
                  <a:srgbClr val="f3912c"/>
                </a:solidFill>
                <a:latin typeface="Arial"/>
              </a:rPr>
              <a:t>Děkuji za pozornost</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Mgr. Zita Nidlová</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finanční manažerka OPVK</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Ministerstvo školství, mládeže a tělovýchovy Č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odbor CER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e-mail: </a:t>
            </a:r>
            <a:r>
              <a:rPr b="0" lang="cs-CZ" sz="1800" spc="-1" strike="noStrike" u="sng">
                <a:solidFill>
                  <a:srgbClr val="0000ff"/>
                </a:solidFill>
                <a:uFillTx/>
                <a:latin typeface="Helvetica CE"/>
                <a:ea typeface="Helvetica CE"/>
                <a:hlinkClick r:id="rId1"/>
              </a:rPr>
              <a:t>zita.nidlova@msmt.cz</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29840" y="113364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líčové aktivity</a:t>
            </a:r>
            <a:br>
              <a:rPr sz="3200"/>
            </a:br>
            <a:r>
              <a:rPr b="1" lang="cs-CZ" sz="1600" spc="-1" strike="noStrike">
                <a:solidFill>
                  <a:srgbClr val="000000"/>
                </a:solidFill>
                <a:latin typeface="Helvetica CE"/>
              </a:rPr>
              <a:t>provázanost jednotlivých položek rozpočtu s aktivitami projektu</a:t>
            </a:r>
            <a:endParaRPr b="1" lang="en-US" sz="1600" spc="-1" strike="noStrike">
              <a:solidFill>
                <a:srgbClr val="000000"/>
              </a:solidFill>
              <a:latin typeface="Helvetica CE"/>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F45AB-31ED-4AD5-811D-A9A17D278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3" name="Picture 7" descr=""/>
          <p:cNvPicPr/>
          <p:nvPr/>
        </p:nvPicPr>
        <p:blipFill>
          <a:blip r:embed="rId1"/>
          <a:stretch/>
        </p:blipFill>
        <p:spPr>
          <a:xfrm>
            <a:off x="957240" y="1968480"/>
            <a:ext cx="6595920" cy="3606840"/>
          </a:xfrm>
          <a:prstGeom prst="rect">
            <a:avLst/>
          </a:prstGeom>
          <a:ln w="0">
            <a:noFill/>
          </a:ln>
        </p:spPr>
      </p:pic>
      <p:sp>
        <p:nvSpPr>
          <p:cNvPr id="584" name="Obdélník 9"/>
          <p:cNvSpPr/>
          <p:nvPr/>
        </p:nvSpPr>
        <p:spPr>
          <a:xfrm>
            <a:off x="6743880" y="4070520"/>
            <a:ext cx="2400120" cy="1877760"/>
          </a:xfrm>
          <a:prstGeom prst="rect">
            <a:avLst/>
          </a:prstGeom>
          <a:solidFill>
            <a:srgbClr val="d7e4bd"/>
          </a:solidFill>
          <a:ln w="25560">
            <a:solidFill>
              <a:srgbClr val="000000">
                <a:alpha val="47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Jaké typy výdajů se  k aktivitě vztahují, popis výdajů pro danou aktivitu. Jaké pozice se na aktivitě podílejí.</a:t>
            </a:r>
            <a:endParaRPr b="0" lang="en-US" sz="1800" spc="-1" strike="noStrike">
              <a:solidFill>
                <a:srgbClr val="000000"/>
              </a:solidFill>
              <a:latin typeface="Arial"/>
            </a:endParaRPr>
          </a:p>
        </p:txBody>
      </p:sp>
      <p:sp>
        <p:nvSpPr>
          <p:cNvPr id="585" name="Šipka doleva 10"/>
          <p:cNvSpPr/>
          <p:nvPr/>
        </p:nvSpPr>
        <p:spPr>
          <a:xfrm>
            <a:off x="6018120" y="4913280"/>
            <a:ext cx="725760" cy="263520"/>
          </a:xfrm>
          <a:prstGeom prst="leftArrow">
            <a:avLst>
              <a:gd name="adj1" fmla="val 50000"/>
              <a:gd name="adj2" fmla="val 50020"/>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6"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29840" y="1122480"/>
            <a:ext cx="6458040" cy="691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 manažerské a administrativní pozice x odborné pozice </a:t>
            </a:r>
            <a:br>
              <a:rPr sz="1600"/>
            </a:br>
            <a:endParaRPr b="1" lang="en-US" sz="1600" spc="-1" strike="noStrike">
              <a:solidFill>
                <a:srgbClr val="000000"/>
              </a:solidFill>
              <a:latin typeface="Helvetica CE"/>
            </a:endParaRPr>
          </a:p>
        </p:txBody>
      </p:sp>
      <p:sp>
        <p:nvSpPr>
          <p:cNvPr id="5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ABCD1-46A1-4C4A-9AD0-49B9C9761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9" name="Picture 4" descr=""/>
          <p:cNvPicPr/>
          <p:nvPr/>
        </p:nvPicPr>
        <p:blipFill>
          <a:blip r:embed="rId1"/>
          <a:stretch/>
        </p:blipFill>
        <p:spPr>
          <a:xfrm>
            <a:off x="1330200" y="1814400"/>
            <a:ext cx="6919920" cy="3800520"/>
          </a:xfrm>
          <a:prstGeom prst="rect">
            <a:avLst/>
          </a:prstGeom>
          <a:ln w="0">
            <a:noFill/>
          </a:ln>
        </p:spPr>
      </p:pic>
      <p:sp>
        <p:nvSpPr>
          <p:cNvPr id="590" name="Obdélník 7"/>
          <p:cNvSpPr/>
          <p:nvPr/>
        </p:nvSpPr>
        <p:spPr>
          <a:xfrm>
            <a:off x="5324400" y="3909960"/>
            <a:ext cx="2637000" cy="62244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Helvetica CE"/>
              </a:rPr>
              <a:t>záznam pro částečný úvazek pracovní smlouvy</a:t>
            </a:r>
            <a:endParaRPr b="0" lang="en-US" sz="1600" spc="-1" strike="noStrike">
              <a:solidFill>
                <a:srgbClr val="000000"/>
              </a:solidFill>
              <a:latin typeface="Arial"/>
            </a:endParaRPr>
          </a:p>
        </p:txBody>
      </p:sp>
      <p:sp>
        <p:nvSpPr>
          <p:cNvPr id="591" name="Šipka doleva 8"/>
          <p:cNvSpPr/>
          <p:nvPr/>
        </p:nvSpPr>
        <p:spPr>
          <a:xfrm>
            <a:off x="4576680" y="4268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2" name="Obrázek 10" descr="Benefit-logo.JPG"/>
          <p:cNvPicPr/>
          <p:nvPr/>
        </p:nvPicPr>
        <p:blipFill>
          <a:blip r:embed="rId2"/>
          <a:srcRect l="0" t="0" r="0" b="3670"/>
          <a:stretch/>
        </p:blipFill>
        <p:spPr>
          <a:xfrm>
            <a:off x="7389720" y="0"/>
            <a:ext cx="1754280" cy="407880"/>
          </a:xfrm>
          <a:prstGeom prst="rect">
            <a:avLst/>
          </a:prstGeom>
          <a:ln w="0">
            <a:noFill/>
          </a:ln>
        </p:spPr>
      </p:pic>
      <p:sp>
        <p:nvSpPr>
          <p:cNvPr id="593" name="Šipka doleva 9"/>
          <p:cNvSpPr/>
          <p:nvPr/>
        </p:nvSpPr>
        <p:spPr>
          <a:xfrm>
            <a:off x="3141720" y="522288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29840" y="1116000"/>
            <a:ext cx="6458040" cy="1060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000000"/>
                </a:solidFill>
                <a:latin typeface="Helvetica CE"/>
              </a:rPr>
              <a:t>Realizační tým</a:t>
            </a:r>
            <a:br>
              <a:rPr sz="3200"/>
            </a:br>
            <a:r>
              <a:rPr b="1" lang="cs-CZ" sz="1600" spc="-1" strike="noStrike">
                <a:solidFill>
                  <a:srgbClr val="000000"/>
                </a:solidFill>
                <a:latin typeface="Helvetica CE"/>
              </a:rPr>
              <a:t>informace ze záložky Realizační tým se automaticky nepřenášejí do záložky Rozpočet </a:t>
            </a:r>
            <a:br>
              <a:rPr sz="1600"/>
            </a:br>
            <a:endParaRPr b="1" lang="en-US" sz="1600" spc="-1" strike="noStrike">
              <a:solidFill>
                <a:srgbClr val="000000"/>
              </a:solidFill>
              <a:latin typeface="Helvetica CE"/>
            </a:endParaRPr>
          </a:p>
        </p:txBody>
      </p:sp>
      <p:sp>
        <p:nvSpPr>
          <p:cNvPr id="5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30340-077C-4B96-967C-202B798D3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6" name="Picture 2" descr=""/>
          <p:cNvPicPr/>
          <p:nvPr/>
        </p:nvPicPr>
        <p:blipFill>
          <a:blip r:embed="rId1"/>
          <a:stretch/>
        </p:blipFill>
        <p:spPr>
          <a:xfrm>
            <a:off x="1330200" y="2251080"/>
            <a:ext cx="6640560" cy="3305160"/>
          </a:xfrm>
          <a:prstGeom prst="rect">
            <a:avLst/>
          </a:prstGeom>
          <a:ln w="0">
            <a:noFill/>
          </a:ln>
        </p:spPr>
      </p:pic>
      <p:sp>
        <p:nvSpPr>
          <p:cNvPr id="597" name="Šipka doleva 7"/>
          <p:cNvSpPr/>
          <p:nvPr/>
        </p:nvSpPr>
        <p:spPr>
          <a:xfrm rot="20914200">
            <a:off x="4230360" y="3876840"/>
            <a:ext cx="725400" cy="263520"/>
          </a:xfrm>
          <a:prstGeom prst="leftArrow">
            <a:avLst>
              <a:gd name="adj1" fmla="val 50000"/>
              <a:gd name="adj2" fmla="val 4999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8" name="Obdélník 8"/>
          <p:cNvSpPr/>
          <p:nvPr/>
        </p:nvSpPr>
        <p:spPr>
          <a:xfrm>
            <a:off x="4973760" y="3700440"/>
            <a:ext cx="1371600" cy="509760"/>
          </a:xfrm>
          <a:prstGeom prst="rect">
            <a:avLst/>
          </a:prstGeom>
          <a:solidFill>
            <a:srgbClr val="d7e4bd"/>
          </a:solidFill>
          <a:ln w="25560">
            <a:solidFill>
              <a:srgbClr val="000000">
                <a:alpha val="4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záznam DPČ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600" spc="-1" strike="noStrike">
                <a:solidFill>
                  <a:srgbClr val="000000"/>
                </a:solidFill>
                <a:latin typeface="Calibri"/>
              </a:rPr>
              <a:t>hod.*sazba</a:t>
            </a:r>
            <a:endParaRPr b="0" lang="en-US" sz="1600" spc="-1" strike="noStrike">
              <a:solidFill>
                <a:srgbClr val="000000"/>
              </a:solidFill>
              <a:latin typeface="Arial"/>
            </a:endParaRPr>
          </a:p>
        </p:txBody>
      </p:sp>
      <p:pic>
        <p:nvPicPr>
          <p:cNvPr id="599" name="Obrázek 10" descr="Benefit-logo.JPG"/>
          <p:cNvPicPr/>
          <p:nvPr/>
        </p:nvPicPr>
        <p:blipFill>
          <a:blip r:embed="rId2"/>
          <a:srcRect l="0" t="0" r="0" b="3670"/>
          <a:stretch/>
        </p:blipFill>
        <p:spPr>
          <a:xfrm>
            <a:off x="7389720" y="0"/>
            <a:ext cx="1754280" cy="4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ákladní pravidla</a:t>
            </a:r>
            <a:endParaRPr b="1" lang="en-US" sz="3200" spc="-1" strike="noStrike">
              <a:solidFill>
                <a:srgbClr val="000000"/>
              </a:solidFill>
              <a:latin typeface="Helvetica CE"/>
            </a:endParaRPr>
          </a:p>
        </p:txBody>
      </p:sp>
      <p:sp>
        <p:nvSpPr>
          <p:cNvPr id="6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6113F-434B-4AEC-8765-8B6C75E9A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2" name=""/>
          <p:cNvSpPr txBox="1"/>
          <p:nvPr/>
        </p:nvSpPr>
        <p:spPr>
          <a:xfrm>
            <a:off x="603360" y="1928880"/>
            <a:ext cx="7184880" cy="3416400"/>
          </a:xfrm>
          <a:prstGeom prst="rect">
            <a:avLst/>
          </a:prstGeom>
          <a:noFill/>
          <a:ln w="0">
            <a:noFill/>
          </a:ln>
        </p:spPr>
        <p:txBody>
          <a:bodyPr anchor="t">
            <a:normAutofit/>
          </a:bodyPr>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přiměřenost </a:t>
            </a:r>
            <a:r>
              <a:rPr b="0" lang="cs-CZ" sz="1800" spc="-1" strike="noStrike">
                <a:solidFill>
                  <a:srgbClr val="000000"/>
                </a:solidFill>
                <a:latin typeface="Helvetica CE"/>
              </a:rPr>
              <a:t>– ceny v místě, oboru a čase obvyklé</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hospodárnost </a:t>
            </a:r>
            <a:r>
              <a:rPr b="0" lang="cs-CZ" sz="1800" spc="-1" strike="noStrike">
                <a:solidFill>
                  <a:srgbClr val="000000"/>
                </a:solidFill>
                <a:latin typeface="Helvetica CE"/>
              </a:rPr>
              <a:t>– minimalizace výdajů</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účelnost </a:t>
            </a:r>
            <a:r>
              <a:rPr b="0" lang="cs-CZ" sz="1800" spc="-1" strike="noStrike">
                <a:solidFill>
                  <a:srgbClr val="000000"/>
                </a:solidFill>
                <a:latin typeface="Helvetica CE"/>
              </a:rPr>
              <a:t>– přímá vazba na projekt</a:t>
            </a:r>
            <a:endParaRPr b="0" lang="en-US" sz="1800" spc="-1" strike="noStrike">
              <a:solidFill>
                <a:srgbClr val="000000"/>
              </a:solidFill>
              <a:latin typeface="Helvetica CE"/>
            </a:endParaRPr>
          </a:p>
          <a:p>
            <a:pPr lvl="1" marL="743040" indent="-285840">
              <a:spcBef>
                <a:spcPts val="4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1800" spc="-1" strike="noStrike">
                <a:solidFill>
                  <a:srgbClr val="ff0000"/>
                </a:solidFill>
                <a:latin typeface="Helvetica CE"/>
              </a:rPr>
              <a:t>efektivnost</a:t>
            </a:r>
            <a:r>
              <a:rPr b="0" lang="cs-CZ" sz="1800" spc="-1" strike="noStrike">
                <a:solidFill>
                  <a:srgbClr val="000000"/>
                </a:solidFill>
                <a:latin typeface="Helvetica CE"/>
              </a:rPr>
              <a:t> – maximalizace poměru mezi výstupy  a vstupy projekt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29840" y="1260000"/>
            <a:ext cx="6458040" cy="498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Kapitoly rozpočtu </a:t>
            </a:r>
            <a:endParaRPr b="1" lang="en-US" sz="3200" spc="-1" strike="noStrike">
              <a:solidFill>
                <a:srgbClr val="000000"/>
              </a:solidFill>
              <a:latin typeface="Helvetica CE"/>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5DFA1-D53E-429B-B088-238DEB71D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5" name=""/>
          <p:cNvSpPr txBox="1"/>
          <p:nvPr/>
        </p:nvSpPr>
        <p:spPr>
          <a:xfrm>
            <a:off x="1329840" y="1977840"/>
            <a:ext cx="6458040" cy="358740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 – Osobní náklad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2 – Cestovní náhrady – zahraniční, (tuzemské)</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 Zařízení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5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4 – Místní kancelář)</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náklady na kancelář zahrňte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	</a:t>
            </a:r>
            <a:r>
              <a:rPr b="1" lang="cs-CZ" sz="1800" spc="-1" strike="noStrike">
                <a:solidFill>
                  <a:srgbClr val="ff0000"/>
                </a:solidFill>
                <a:latin typeface="Helvetica CE"/>
              </a:rPr>
              <a:t>do nepřímých nákladů</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5 – Nákup služeb</a:t>
            </a:r>
            <a:r>
              <a:rPr b="0" lang="cs-CZ" sz="18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49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6 – Stavební úpravy</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7 – Přímá podpora</a:t>
            </a:r>
            <a:r>
              <a:rPr b="0" lang="cs-CZ" sz="1800" spc="-1" strike="noStrike">
                <a:solidFill>
                  <a:srgbClr val="000000"/>
                </a:solidFill>
                <a:latin typeface="Helvetica CE"/>
              </a:rPr>
              <a:t>	</a:t>
            </a:r>
            <a:r>
              <a:rPr b="0" lang="cs-CZ" sz="1800" spc="-1" strike="noStrike">
                <a:solidFill>
                  <a:srgbClr val="000000"/>
                </a:solidFill>
                <a:latin typeface="Helvetica CE"/>
              </a:rPr>
              <a:t>	</a:t>
            </a:r>
            <a:r>
              <a:rPr b="1" lang="cs-CZ" sz="1800" spc="-1" strike="noStrike">
                <a:solidFill>
                  <a:srgbClr val="ff0000"/>
                </a:solidFill>
                <a:latin typeface="Helvetica CE"/>
              </a:rPr>
              <a:t>limit 20 %</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8 – Náklady vyplývající přímo z rozhodnutí</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9 – Přímé způsobilé výdaje celkem</a:t>
            </a:r>
            <a:endParaRPr b="0" lang="en-US" sz="1800" spc="-1" strike="noStrike">
              <a:solidFill>
                <a:srgbClr val="000000"/>
              </a:solidFill>
              <a:latin typeface="Helvetica CE"/>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10 – Nepřímé výdaje</a:t>
            </a:r>
            <a:endParaRPr b="0" lang="en-US" sz="1800" spc="-1" strike="noStrike">
              <a:solidFill>
                <a:srgbClr val="000000"/>
              </a:solidFill>
              <a:latin typeface="Helvetica CE"/>
            </a:endParaRPr>
          </a:p>
          <a:p>
            <a:pPr marL="339480" indent="-3394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27T14:08:01Z</dcterms:modified>
  <cp:revision>173</cp:revision>
  <dc:subject/>
  <dc:title>Titulní strana – Titulek</dc:title>
</cp:coreProperties>
</file>